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842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700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984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842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700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42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700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984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42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700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0.</a:t>
            </a:r>
            <a:fld id="{6D62B306-9FE0-4B49-A265-0CA5AF96DFE4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0:  File-System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68960" y="53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Locking Example – Java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56800" y="1933200"/>
            <a:ext cx="69217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nio.channels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class LockingExample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EXCLUSIVE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SHARED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void main(String arsg[]) throws IOException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shared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exclusive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ry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RandomAccessFile raf = new RandomAccessFile("file.txt", "r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get the channel for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Channel ch = raf.getChan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this locks the first half of the file - exclu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 = ch.lock(0, raf.length()/2, EXCLUSI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** Now modify the data . . 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73840" y="941400"/>
            <a:ext cx="25257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Locking Example – Java API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this locks the second half of the file -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 = ch.lock(raf.length()/2+1, raf.length(),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** Now read the data . . 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tch (java.io.IOException ioe)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ystem.err.println(io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finally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exclusive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shared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1165320" y="1163520"/>
            <a:ext cx="4654440" cy="497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907240" y="207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0231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osition to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write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45200" y="3160800"/>
            <a:ext cx="2700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98" t="33012" r="458" b="33947"/>
          <a:stretch/>
        </p:blipFill>
        <p:spPr>
          <a:xfrm>
            <a:off x="798480" y="1251000"/>
            <a:ext cx="7924680" cy="1987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89200" y="36561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imulation of Sequential Access on a Direct-access File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093" t="27696" r="864" b="28277"/>
          <a:stretch/>
        </p:blipFill>
        <p:spPr>
          <a:xfrm>
            <a:off x="1295280" y="1251000"/>
            <a:ext cx="6834240" cy="2301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18080" y="40179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Index and Relative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598" t="12044" r="812" b="12330"/>
          <a:stretch/>
        </p:blipFill>
        <p:spPr>
          <a:xfrm>
            <a:off x="655560" y="1324080"/>
            <a:ext cx="5821560" cy="3349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967360" y="4772160"/>
            <a:ext cx="252576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38360" y="1962000"/>
            <a:ext cx="4186440" cy="1473480"/>
          </a:xfrm>
          <a:custGeom>
            <a:avLst/>
            <a:gdLst/>
            <a:ahLst/>
            <a:rect l="l" t="t" r="r" b="b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47800" y="2139120"/>
            <a:ext cx="5327640" cy="3201120"/>
            <a:chOff x="847800" y="2139120"/>
            <a:chExt cx="5327640" cy="3201120"/>
          </a:xfrm>
        </p:grpSpPr>
        <p:sp>
          <p:nvSpPr>
            <p:cNvPr id="148" name=""/>
            <p:cNvSpPr/>
            <p:nvPr/>
          </p:nvSpPr>
          <p:spPr>
            <a:xfrm>
              <a:off x="2370240" y="2139840"/>
              <a:ext cx="5331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2139840"/>
              <a:ext cx="53352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94120" y="2139840"/>
              <a:ext cx="53352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56240" y="2139840"/>
              <a:ext cx="5331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8000" y="2444760"/>
              <a:ext cx="53352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70240" y="4120920"/>
              <a:ext cx="457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2000" y="4120920"/>
              <a:ext cx="45720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94120" y="4120920"/>
              <a:ext cx="457200" cy="838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56240" y="4120920"/>
              <a:ext cx="4572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8000" y="4502160"/>
              <a:ext cx="457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89400" y="2597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2720" y="2597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6600" y="2901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84840" y="2597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8840" y="2597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3040" y="3740040"/>
              <a:ext cx="4262400" cy="1600200"/>
            </a:xfrm>
            <a:custGeom>
              <a:avLst/>
              <a:gdLst/>
              <a:ahLst/>
              <a:rect l="l" t="t" r="r" b="b"/>
              <a:pathLst>
                <a:path w="2637" h="928">
                  <a:moveTo>
                    <a:pt x="10" y="328"/>
                  </a:moveTo>
                  <a:cubicBezTo>
                    <a:pt x="14" y="291"/>
                    <a:pt x="6" y="248"/>
                    <a:pt x="28" y="219"/>
                  </a:cubicBezTo>
                  <a:cubicBezTo>
                    <a:pt x="124" y="92"/>
                    <a:pt x="264" y="66"/>
                    <a:pt x="410" y="37"/>
                  </a:cubicBezTo>
                  <a:cubicBezTo>
                    <a:pt x="516" y="16"/>
                    <a:pt x="457" y="14"/>
                    <a:pt x="583" y="10"/>
                  </a:cubicBezTo>
                  <a:cubicBezTo>
                    <a:pt x="728" y="5"/>
                    <a:pt x="874" y="3"/>
                    <a:pt x="1019" y="0"/>
                  </a:cubicBezTo>
                  <a:cubicBezTo>
                    <a:pt x="1146" y="3"/>
                    <a:pt x="1274" y="3"/>
                    <a:pt x="1401" y="10"/>
                  </a:cubicBezTo>
                  <a:cubicBezTo>
                    <a:pt x="1485" y="15"/>
                    <a:pt x="1571" y="41"/>
                    <a:pt x="1655" y="55"/>
                  </a:cubicBezTo>
                  <a:cubicBezTo>
                    <a:pt x="1733" y="86"/>
                    <a:pt x="1819" y="108"/>
                    <a:pt x="1901" y="128"/>
                  </a:cubicBezTo>
                  <a:cubicBezTo>
                    <a:pt x="1942" y="148"/>
                    <a:pt x="1975" y="152"/>
                    <a:pt x="2019" y="164"/>
                  </a:cubicBezTo>
                  <a:cubicBezTo>
                    <a:pt x="2098" y="185"/>
                    <a:pt x="2162" y="200"/>
                    <a:pt x="2246" y="210"/>
                  </a:cubicBezTo>
                  <a:cubicBezTo>
                    <a:pt x="2293" y="226"/>
                    <a:pt x="2338" y="230"/>
                    <a:pt x="2382" y="255"/>
                  </a:cubicBezTo>
                  <a:cubicBezTo>
                    <a:pt x="2439" y="287"/>
                    <a:pt x="2477" y="343"/>
                    <a:pt x="2519" y="391"/>
                  </a:cubicBezTo>
                  <a:cubicBezTo>
                    <a:pt x="2536" y="410"/>
                    <a:pt x="2562" y="423"/>
                    <a:pt x="2573" y="446"/>
                  </a:cubicBezTo>
                  <a:cubicBezTo>
                    <a:pt x="2594" y="488"/>
                    <a:pt x="2606" y="529"/>
                    <a:pt x="2619" y="573"/>
                  </a:cubicBezTo>
                  <a:cubicBezTo>
                    <a:pt x="2624" y="591"/>
                    <a:pt x="2637" y="628"/>
                    <a:pt x="2637" y="628"/>
                  </a:cubicBezTo>
                  <a:cubicBezTo>
                    <a:pt x="2634" y="654"/>
                    <a:pt x="2634" y="707"/>
                    <a:pt x="2619" y="737"/>
                  </a:cubicBezTo>
                  <a:cubicBezTo>
                    <a:pt x="2582" y="812"/>
                    <a:pt x="2477" y="854"/>
                    <a:pt x="2401" y="873"/>
                  </a:cubicBezTo>
                  <a:cubicBezTo>
                    <a:pt x="2341" y="911"/>
                    <a:pt x="2270" y="909"/>
                    <a:pt x="2201" y="919"/>
                  </a:cubicBezTo>
                  <a:cubicBezTo>
                    <a:pt x="1832" y="915"/>
                    <a:pt x="1500" y="928"/>
                    <a:pt x="1146" y="873"/>
                  </a:cubicBezTo>
                  <a:cubicBezTo>
                    <a:pt x="917" y="837"/>
                    <a:pt x="702" y="728"/>
                    <a:pt x="474" y="700"/>
                  </a:cubicBezTo>
                  <a:cubicBezTo>
                    <a:pt x="465" y="697"/>
                    <a:pt x="455" y="695"/>
                    <a:pt x="446" y="691"/>
                  </a:cubicBezTo>
                  <a:cubicBezTo>
                    <a:pt x="434" y="686"/>
                    <a:pt x="423" y="677"/>
                    <a:pt x="410" y="673"/>
                  </a:cubicBezTo>
                  <a:cubicBezTo>
                    <a:pt x="297" y="636"/>
                    <a:pt x="185" y="632"/>
                    <a:pt x="83" y="564"/>
                  </a:cubicBezTo>
                  <a:cubicBezTo>
                    <a:pt x="47" y="512"/>
                    <a:pt x="45" y="458"/>
                    <a:pt x="28" y="400"/>
                  </a:cubicBezTo>
                  <a:cubicBezTo>
                    <a:pt x="28" y="400"/>
                    <a:pt x="5" y="332"/>
                    <a:pt x="1" y="319"/>
                  </a:cubicBezTo>
                  <a:cubicBezTo>
                    <a:pt x="0" y="315"/>
                    <a:pt x="7" y="325"/>
                    <a:pt x="10" y="3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7800" y="21391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7840" y="40442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990720" y="5638680"/>
            <a:ext cx="702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s of these two structures are kept on t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92880" y="3325680"/>
            <a:ext cx="27511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668" t="14791" r="439" b="14485"/>
          <a:stretch/>
        </p:blipFill>
        <p:spPr>
          <a:xfrm>
            <a:off x="1262160" y="1251000"/>
            <a:ext cx="6087960" cy="3265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33640" y="4637160"/>
            <a:ext cx="26132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erse the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89480" y="3959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0:  File-System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37160" y="3887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Organize the Directory (Logically) to Obtai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70675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68840" y="3948120"/>
            <a:ext cx="28130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6081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ction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nterfaces to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file-system design tradeoffs, including access methods, file sharing, file locking,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file-system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65520" y="4046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42924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11760" y="4033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4484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- sequence of words,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record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ocatable load f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deci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48440" y="1566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637056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94440" y="4848120"/>
            <a:ext cx="2679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63705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sition withi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arch the directory structure on disk for entr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ove the content of entr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memory to directory structure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13190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67548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-open count: counter of number of times a file is open – to allow removal of data from open-file table when last processes closes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67120" y="4149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7372440" cy="24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s access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or advis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ccess is denied depending on locks held and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s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can find status of locks and decide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6120" y="4206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CSE</cp:lastModifiedBy>
  <dcterms:modified xsi:type="dcterms:W3CDTF">2008-03-25T21:35:38Z</dcterms:modified>
  <cp:revision>46</cp:revision>
  <dc:subject/>
  <dc:title>1.01</dc:title>
</cp:coreProperties>
</file>