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0.</a:t>
            </a:r>
            <a:fld id="{1310089A-4224-4757-8D34-3F756B702CD8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ngle-Level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ingle directory for all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50840" y="4238640"/>
            <a:ext cx="71233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ing proble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439" t="37624" r="879" b="37934"/>
          <a:stretch/>
        </p:blipFill>
        <p:spPr>
          <a:xfrm>
            <a:off x="798480" y="2157480"/>
            <a:ext cx="8123400" cy="1509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06840" y="414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ystem Mount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666108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system must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it can be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mounted file system (i.e. Fig. 11-11(b)) is mounted a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70160" y="3932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(a) Existing.  (b) Unmounted Parti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820" t="11901" r="1037" b="12453"/>
          <a:stretch/>
        </p:blipFill>
        <p:spPr>
          <a:xfrm>
            <a:off x="189000" y="1120680"/>
            <a:ext cx="6302160" cy="3643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632560" y="4711680"/>
            <a:ext cx="28605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unt Poi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9034" t="615" r="19034" b="615"/>
          <a:stretch/>
        </p:blipFill>
        <p:spPr>
          <a:xfrm>
            <a:off x="743040" y="1179360"/>
            <a:ext cx="4065480" cy="4862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02160" y="2668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98120" y="1251000"/>
            <a:ext cx="711036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files on multi-user systems is desir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may be done through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istributed systems, files may be shared across a networ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ile System (NFS) is a common distributed file-shar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102280" y="4365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Multiple Us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687852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y users, allowing permissions and protections to be per-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users to be in groups, permitting group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67040" y="4048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Remote 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163160"/>
            <a:ext cx="76201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networking to allow file system access betwee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ly via programs like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, seamlessly us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ed 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 automatically via the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-ser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del allows clients to mount remote file systems from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can serve multiple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and user-on-client identification is insecure or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standard UNIX client-server file sharing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F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standard Windows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operating system file calls are translated into remot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d Information System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istributed naming service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ch as LDAP, DNS, NIS, Active Directory implement unified access to information needed for remote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26400" y="2843280"/>
            <a:ext cx="20224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Failure Mod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71978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file systems add new failure modes, due to network failure, serve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from failure can involve state information about status of each remot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less protocols such as NFS include all information in each request, allowing easy recovery but less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28840" y="4048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Consistency Semantic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4240" y="1191960"/>
            <a:ext cx="69073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stency semant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pecify how multiple users are to access a shared file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Ch 7 process synchronization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d to be less complex due to disk I/O and network latency (for remote 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w File System (AFS) implemented complex remote file sharing seman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ile system (UFS) imple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s to an open file visible immediately to other users of the same ope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ing file pointer to allow multiple users to read and write concurr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 has session seman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s only visible to sessions starting after the file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872320" y="5040360"/>
            <a:ext cx="24238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49197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owner/creator should be able to contr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can be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wh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51440" y="3322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Lists and Group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4440" y="872640"/>
            <a:ext cx="6980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of access:  read, write,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classes of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ner ac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1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 ac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ac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manager to create a group (unique name), say G, and add some users to the grou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a particular file (sa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r subdirectory, define an appropriate ac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16400" y="4884120"/>
            <a:ext cx="1978200" cy="790560"/>
            <a:chOff x="3416400" y="4884120"/>
            <a:chExt cx="1978200" cy="790560"/>
          </a:xfrm>
        </p:grpSpPr>
        <p:sp>
          <p:nvSpPr>
            <p:cNvPr id="169" name=""/>
            <p:cNvSpPr/>
            <p:nvPr/>
          </p:nvSpPr>
          <p:spPr>
            <a:xfrm>
              <a:off x="3416400" y="48841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71600" y="488412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14640" y="488412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75080" y="539820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m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08320" y="539820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91080" y="5398200"/>
              <a:ext cx="56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6800" y="5065560"/>
              <a:ext cx="46224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43400" y="51084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493880" y="5079960"/>
              <a:ext cx="60012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50800" y="5672160"/>
            <a:ext cx="7029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 a group to a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grp     G   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913360" y="3670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 directory for each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8480" y="4575240"/>
            <a:ext cx="5407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the same file name for different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rouping 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443" t="29448" r="1115" b="29168"/>
          <a:stretch/>
        </p:blipFill>
        <p:spPr>
          <a:xfrm>
            <a:off x="1174680" y="1959120"/>
            <a:ext cx="6721560" cy="2119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07200" y="4676760"/>
            <a:ext cx="26128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indows XP Access-control List Managemen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21806" t="1201" r="22042" b="1831"/>
          <a:stretch/>
        </p:blipFill>
        <p:spPr>
          <a:xfrm>
            <a:off x="0" y="923760"/>
            <a:ext cx="6502320" cy="5729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578640" y="3235320"/>
            <a:ext cx="2565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Sample UNIX Directory List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724" t="27066" r="724" b="27066"/>
          <a:stretch/>
        </p:blipFill>
        <p:spPr>
          <a:xfrm>
            <a:off x="0" y="1125360"/>
            <a:ext cx="7188120" cy="3281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4984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nd of Chapter 1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ee-Structured Director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9600" y="858960"/>
            <a:ext cx="6497640" cy="41288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05720" y="47671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ee-Structured Directories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6907320" cy="25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Capabi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irectory (working dire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d /spell/mail/p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yp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2800" y="40622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ee-Structured Directories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4152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th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new file is done in current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m &lt;file-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a new subdirectory is done in current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mkdir &lt;dir-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if in current directory  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mkdir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68560" y="4487760"/>
            <a:ext cx="3035160" cy="974520"/>
            <a:chOff x="1168560" y="4487760"/>
            <a:chExt cx="3035160" cy="974520"/>
          </a:xfrm>
        </p:grpSpPr>
        <p:sp>
          <p:nvSpPr>
            <p:cNvPr id="117" name=""/>
            <p:cNvSpPr/>
            <p:nvPr/>
          </p:nvSpPr>
          <p:spPr>
            <a:xfrm>
              <a:off x="2359080" y="4487760"/>
              <a:ext cx="879480" cy="331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68560" y="5130360"/>
              <a:ext cx="720720" cy="33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9280" y="5130360"/>
              <a:ext cx="720720" cy="33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p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10000" y="5130360"/>
              <a:ext cx="446040" cy="33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1360" y="5130360"/>
              <a:ext cx="446040" cy="33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97400" y="5130360"/>
              <a:ext cx="706320" cy="33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6400" y="4819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852480" y="5902200"/>
            <a:ext cx="742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ng “mail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eting the entire subtree rooted by “mai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67480" y="33656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yclic-Graph Director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shared subdirectories and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4264" t="591" r="4474" b="901"/>
          <a:stretch/>
        </p:blipFill>
        <p:spPr>
          <a:xfrm>
            <a:off x="316080" y="1739880"/>
            <a:ext cx="5770440" cy="4672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5880" y="3233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yclic-Graph Directori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6689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different names (aliasing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et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ngling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pointers, so we can delete all point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size records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pointers using a daisy chain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y-hold-count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irectory entry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another name (pointer) to an existin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 the lin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ollow pointer to locate th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92800" y="383364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eneral Graph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620" t="10769" r="1063" b="11035"/>
          <a:stretch/>
        </p:blipFill>
        <p:spPr>
          <a:xfrm>
            <a:off x="222120" y="1297080"/>
            <a:ext cx="6201000" cy="3698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23120" y="2146320"/>
            <a:ext cx="2506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eneral Graph Direct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6980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guarantee no cyc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links to file not sub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a new link is added use a cycle det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to determine whether it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53000" y="3960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>Lucent End User</dc:creator>
  <dc:description/>
  <dc:language>en-US</dc:language>
  <cp:lastModifiedBy>CSE</cp:lastModifiedBy>
  <dcterms:modified xsi:type="dcterms:W3CDTF">2008-03-25T22:03:28Z</dcterms:modified>
  <cp:revision>50</cp:revision>
  <dc:subject/>
  <dc:title>1.01</dc:title>
</cp:coreProperties>
</file>