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2.</a:t>
            </a:r>
            <a:fld id="{1BF1210D-87EA-4A74-9D5D-455523AE7C5D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8361600">
            <a:off x="1609200" y="4961520"/>
            <a:ext cx="9720" cy="1440"/>
          </a:xfrm>
          <a:custGeom>
            <a:avLst/>
            <a:gdLst/>
            <a:ahLst/>
            <a:rect l="l" t="t" r="r" b="b"/>
            <a:pathLst>
              <a:path w="20" h="4">
                <a:moveTo>
                  <a:pt x="20" y="4"/>
                </a:moveTo>
                <a:lnTo>
                  <a:pt x="0" y="0"/>
                </a:lnTo>
                <a:lnTo>
                  <a:pt x="16" y="0"/>
                </a:lnTo>
                <a:lnTo>
                  <a:pt x="2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 rot="10665600">
            <a:off x="1188720" y="4204440"/>
            <a:ext cx="4680" cy="1800"/>
          </a:xfrm>
          <a:custGeom>
            <a:avLst/>
            <a:gdLst/>
            <a:ahLst/>
            <a:rect l="l" t="t" r="r" b="b"/>
            <a:pathLst>
              <a:path w="12" h="4">
                <a:moveTo>
                  <a:pt x="12" y="4"/>
                </a:moveTo>
                <a:lnTo>
                  <a:pt x="0" y="0"/>
                </a:lnTo>
                <a:lnTo>
                  <a:pt x="12" y="0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64200" y="4206960"/>
            <a:ext cx="7920" cy="9360"/>
          </a:xfrm>
          <a:custGeom>
            <a:avLst/>
            <a:gdLst/>
            <a:ahLst/>
            <a:rect l="l" t="t" r="r" b="b"/>
            <a:pathLst>
              <a:path w="12" h="12">
                <a:moveTo>
                  <a:pt x="7" y="12"/>
                </a:moveTo>
                <a:lnTo>
                  <a:pt x="0" y="10"/>
                </a:lnTo>
                <a:lnTo>
                  <a:pt x="12" y="0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360" y="6613560"/>
            <a:ext cx="187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658880" y="1109520"/>
            <a:ext cx="4680" cy="180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7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898560" y="1170000"/>
            <a:ext cx="3240" cy="1440"/>
          </a:xfrm>
          <a:custGeom>
            <a:avLst/>
            <a:gdLst/>
            <a:ahLst/>
            <a:rect l="l" t="t" r="r" b="b"/>
            <a:pathLst>
              <a:path w="10" h="0">
                <a:moveTo>
                  <a:pt x="0" y="0"/>
                </a:moveTo>
                <a:lnTo>
                  <a:pt x="1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1467000" y="888840"/>
            <a:ext cx="6480" cy="180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7"/>
                </a:moveTo>
                <a:lnTo>
                  <a:pt x="12" y="0"/>
                </a:lnTo>
                <a:lnTo>
                  <a:pt x="1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639800" y="1144440"/>
            <a:ext cx="1440" cy="6480"/>
          </a:xfrm>
          <a:custGeom>
            <a:avLst/>
            <a:gdLst/>
            <a:ahLst/>
            <a:rect l="l" t="t" r="r" b="b"/>
            <a:pathLst>
              <a:path w="6" h="16">
                <a:moveTo>
                  <a:pt x="0" y="16"/>
                </a:moveTo>
                <a:lnTo>
                  <a:pt x="6" y="0"/>
                </a:lnTo>
                <a:lnTo>
                  <a:pt x="3" y="13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1247760" y="1146240"/>
            <a:ext cx="4680" cy="7920"/>
          </a:xfrm>
          <a:custGeom>
            <a:avLst/>
            <a:gdLst/>
            <a:ahLst/>
            <a:rect l="l" t="t" r="r" b="b"/>
            <a:pathLst>
              <a:path w="11" h="20">
                <a:moveTo>
                  <a:pt x="8" y="20"/>
                </a:moveTo>
                <a:lnTo>
                  <a:pt x="0" y="0"/>
                </a:lnTo>
                <a:lnTo>
                  <a:pt x="11" y="16"/>
                </a:lnTo>
                <a:lnTo>
                  <a:pt x="8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101600" y="1228680"/>
            <a:ext cx="1440" cy="648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1303200" y="1270080"/>
            <a:ext cx="12600" cy="1440"/>
          </a:xfrm>
          <a:custGeom>
            <a:avLst/>
            <a:gdLst/>
            <a:ahLst/>
            <a:rect l="l" t="t" r="r" b="b"/>
            <a:pathLst>
              <a:path w="30" h="3">
                <a:moveTo>
                  <a:pt x="0" y="3"/>
                </a:moveTo>
                <a:lnTo>
                  <a:pt x="15" y="0"/>
                </a:lnTo>
                <a:lnTo>
                  <a:pt x="3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176480" y="885960"/>
            <a:ext cx="4680" cy="9360"/>
          </a:xfrm>
          <a:custGeom>
            <a:avLst/>
            <a:gdLst/>
            <a:ahLst/>
            <a:rect l="l" t="t" r="r" b="b"/>
            <a:pathLst>
              <a:path w="9" h="24">
                <a:moveTo>
                  <a:pt x="0" y="24"/>
                </a:moveTo>
                <a:lnTo>
                  <a:pt x="9" y="0"/>
                </a:lnTo>
                <a:lnTo>
                  <a:pt x="6" y="17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11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:  Computer-System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4400" y="41860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Standard AP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661860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the ReadFile() function i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32 API—a function for reading from a fil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parameters passed to ReadFil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 file—the file to be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VOID buffer—a buffer where the data will be read into and written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ORD bytesToRead—the number of bytes to be read into the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DWORD bytesRead—the number of bytes read during the last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OVERLAPPED ovl—indicates if overlapped I/O is being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030" t="29630" r="1030" b="29355"/>
          <a:stretch/>
        </p:blipFill>
        <p:spPr>
          <a:xfrm>
            <a:off x="527040" y="2297160"/>
            <a:ext cx="6037200" cy="1895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65960" y="1538280"/>
            <a:ext cx="26780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all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780912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, a number associated with each system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call interface maintains a table indexed according to these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ystem call interface invokes intended system call in OS kernel and returns status of the system call and any return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aller does not need to know anything about how the system call is implem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st needs to obey API and understand what OS will do as a result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details of  OS interface are hidden from programmer by AP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d by run-time support library (set of functions built into libraries included with compi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32400" y="4686480"/>
            <a:ext cx="24116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PI – System Call – OS Relationship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775" t="9819" r="967" b="10075"/>
          <a:stretch/>
        </p:blipFill>
        <p:spPr>
          <a:xfrm>
            <a:off x="285840" y="1104840"/>
            <a:ext cx="6084720" cy="3721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253200" y="4616280"/>
            <a:ext cx="26607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ndard C Library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0246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program invoking printf() library call, which calls write() system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16977" t="551" r="17184" b="551"/>
          <a:stretch/>
        </p:blipFill>
        <p:spPr>
          <a:xfrm>
            <a:off x="758880" y="2006640"/>
            <a:ext cx="4038480" cy="4549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35640" y="26719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all Parameter Pass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84080" y="1093320"/>
            <a:ext cx="809784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ten, more information is required than simply identity of desired system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ct type and amount of information vary according to OS and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general methods used to pass parameters to the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st:  pass the parameters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some cases, may be more parameters than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stored in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table, in memory, and address of block passed as a parameter in a regis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approach taken by Linux and Sol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placed, 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ushed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to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program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pp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the stack by the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and stack methods do not limit the number or length of parameters being pa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205680" y="4471920"/>
            <a:ext cx="2728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rameter Passing via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402" t="15263" r="602" b="15529"/>
          <a:stretch/>
        </p:blipFill>
        <p:spPr>
          <a:xfrm>
            <a:off x="871560" y="933480"/>
            <a:ext cx="6261120" cy="3282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87760" y="4559400"/>
            <a:ext cx="27860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ypes of 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45421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32240" y="37591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s of System calls - Oth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3360" y="919080"/>
            <a:ext cx="77788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, kill, abort, signal, wait, getpid, setpid, p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Management system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, delete, read, write, seek, reposition, open, close, get_file_attr, set_file_attr, move, copy. Or via API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ce (virtual or physical) Management system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, release, read, write, set, 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se of shared devices requires process synchonization – later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ime, current time, date, mypid, diskinfo, sysinfo, processid, getprocess_attr, setprocess_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 (Message-passing vs. shared memory mode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hostid, getprocessid, open connection, close connection, read/write message, create mail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491000" y="4992840"/>
            <a:ext cx="27226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ingle process control in MS-DOS execu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3598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6084" t="507" r="6276" b="1014"/>
          <a:stretch/>
        </p:blipFill>
        <p:spPr>
          <a:xfrm>
            <a:off x="569880" y="1266840"/>
            <a:ext cx="4905360" cy="4133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095480" y="56404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t system startup (b) running a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95920" y="2381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BSD Running Multiple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31655" t="536" r="31655" b="536"/>
          <a:stretch/>
        </p:blipFill>
        <p:spPr>
          <a:xfrm>
            <a:off x="1731960" y="1397160"/>
            <a:ext cx="2311560" cy="4673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5240" y="25257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:  Computer-System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70837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Operating System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System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 Design and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0532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10 dtrace Following System Cal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19196" t="1319" r="19196" b="2372"/>
          <a:stretch/>
        </p:blipFill>
        <p:spPr>
          <a:xfrm>
            <a:off x="905040" y="1128600"/>
            <a:ext cx="4297320" cy="5037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75240" y="2527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741708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escribe the services an operating system provides to users, processes, and o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iscuss the various ways of structuring an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explain how operating systems are installed and customized and how they 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4254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696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Ser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1440" y="556920"/>
            <a:ext cx="87822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t of operating-system services provides functions that are helpful to the us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Almost all operating systems have a user interface (U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es between Command-Line (CLI), Graphics User Interface (GUI), 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 execu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The system must be able to load a program into memory and to run that program, end execution, either normally or abnormally (indicating err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/O opera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A running program may require I/O, which may involve a file or an I/O devi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-system manipul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The file system is of particular interest. Obviously, programs need to read and write files and directories, create and delete them, search them, list file Information, permissio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Processes may exchange information, on the same computer or between computers over a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 may be via shared memory or through message passing (packets moved by the 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dete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OS needs to be constantly aware of possible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occur in the CPU and memory hardware, in I/O devices, in user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ach type of error, OS should take the appropriate action to ensure correct and consistent c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ugging facilities can greatly enhance the user’s and programmer’s abilities to efficiently use th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54640" y="5384880"/>
            <a:ext cx="21924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Servic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7760" y="1136160"/>
            <a:ext cx="809784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set of OS functions exists for ensuring the efficient operation of the system itself via resourc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llocation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 multiple users or multiple jobs running concurrently, resources must be allocated to each of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ypes of resources -  Some (such as CPU cycles, main memory, and file storage) may have special allocation code, others (such as I/O devices) may have general request and release co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unting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keep track of which users use how much and what kinds of computer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ction and security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wners of information stored in a multiuser or networked computer system may want to control use of that information, concurrent processes should not interfere with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volves ensuring that all access to system resources is contro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system from outsiders requires user authentication, extends to defending external I/O devices from invalid access attem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a system is to be protected and secure, precautions must be instituted throughout. A chain is only as strong as its weakest li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03840" y="4978440"/>
            <a:ext cx="25401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Operating System Interface - CL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677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principle for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 (Command Line Interface) allows direct command e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implemented in kernel, sometimes by systems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multiple flavors are implemented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ily fetches a command from user and executes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commands are built-in, sometimes just names of programs are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latter, adding new features doesn’t require shell mo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51640" y="4702320"/>
            <a:ext cx="233676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Operating System Interface - GU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5200" y="890640"/>
            <a:ext cx="7880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-friendl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kto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tapho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ally mouse, keyboard, and 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resent files, programs, action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mouse buttons over objects in the interface cause various actions (provide information, options, execute function, open directory (known as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t Xerox PA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systems now include both CLI and GUI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Windows is GUI with CLI “command” 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e Mac OS X as “Aqua” GUI interface with UNIX kernel underneath and shell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is is CLI with optional GUI interfaces (Java Desktop, KDE – K Desktop Environment). Linux 8.x has both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648480" y="4978440"/>
            <a:ext cx="2495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2880" y="1006200"/>
            <a:ext cx="764856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 interface to the services provided by the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written in a high-level language (C or C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ly accessed by programs via a high-leve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Program Interface (API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ther than direct system call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most common APIs are Win32 API for Windows, POSIX API for POSIX-based systems (including virtually all versions of UNIX, Linux, and Mac OS X), and Java API for the Java virtual machine (J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use APIs rather than system call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e API performs the sequence of call invocations on behalf of the application programmer – for correctness, portability, interception of system-call functions by the s-c interface invoked from the API (hidden complex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 that the system-call names used throughout this text are gener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624720" y="4686480"/>
            <a:ext cx="25192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560" y="1006200"/>
            <a:ext cx="7604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all sequence to copy the contents of one file to anothe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613" t="6123" r="613" b="5710"/>
          <a:stretch/>
        </p:blipFill>
        <p:spPr>
          <a:xfrm>
            <a:off x="271440" y="1725480"/>
            <a:ext cx="6148440" cy="4116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80000" y="4427640"/>
            <a:ext cx="266400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9:11:13Z</dcterms:created>
  <dc:creator>Lucent End User</dc:creator>
  <dc:description/>
  <dc:language>en-US</dc:language>
  <cp:lastModifiedBy>CSE</cp:lastModifiedBy>
  <cp:lastPrinted>2001-06-14T13:58:17Z</cp:lastPrinted>
  <dcterms:modified xsi:type="dcterms:W3CDTF">2008-01-22T18:31:14Z</dcterms:modified>
  <cp:revision>78</cp:revision>
  <dc:subject/>
  <dc:title>2.01</dc:title>
</cp:coreProperties>
</file>