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2.</a:t>
            </a:r>
            <a:fld id="{545B29DE-6B90-4A01-BE69-CA3A90D557FD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7880" y="991800"/>
            <a:ext cx="747396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programs provide a convenient environment fo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They can be divided i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manipu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mo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 languag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loading and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users’ view of the operation system is defined by system programs, not the actual system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634080" y="4702320"/>
            <a:ext cx="25099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 System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380" t="10139" r="380" b="10139"/>
          <a:stretch/>
        </p:blipFill>
        <p:spPr>
          <a:xfrm>
            <a:off x="231840" y="811080"/>
            <a:ext cx="6485040" cy="3907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37360" y="4664160"/>
            <a:ext cx="2674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ered Operating System - Multic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3090" t="709" r="13090" b="709"/>
          <a:stretch/>
        </p:blipFill>
        <p:spPr>
          <a:xfrm>
            <a:off x="357120" y="944640"/>
            <a:ext cx="5300640" cy="5308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37400" y="31352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icrokernel System Stru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98480" y="1064880"/>
            <a:ext cx="801216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s as much from the kernel into 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takes place between user modules using message pa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ier to extend a microkernel (by adding to the functionality in the upper mod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ier to port the operating system to new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reliable (less code is running in kernel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ri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verhead of user space to kernel space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18280" y="4572000"/>
            <a:ext cx="2700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u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803916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modern operating systems implement kern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bject-orient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re component is sep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alks to the others over known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s loadable as needed within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, similar to layers but with mor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986440" y="4438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c OS X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521" t="10420" r="783" b="10420"/>
          <a:stretch/>
        </p:blipFill>
        <p:spPr>
          <a:xfrm>
            <a:off x="716040" y="963720"/>
            <a:ext cx="4813200" cy="2895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705640" y="3919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Modular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528" t="18748" r="351" b="19215"/>
          <a:stretch/>
        </p:blipFill>
        <p:spPr>
          <a:xfrm>
            <a:off x="219240" y="1114560"/>
            <a:ext cx="7162560" cy="3362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937040" y="4470480"/>
            <a:ext cx="30481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707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rtual mach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akes the layered approach to its logical conclusion.  It treats hardware and the operating system kernel as though they were all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rtual machine provides an interfac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underlying bare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perating system creates the illusion of multiple processes, each executing on its own processor with its own (virtual)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59440" y="39924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7120" y="11383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sources of the physical computer are shared to create the virtual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scheduling can create the appearance that users have their own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ooling and a file system can provide virtual card readers and virtual line pri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ormal user time-sharing terminal serves as the virtual machine operator’s cons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72040" y="4037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Mode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Nonvirtual machine (b) virtual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406" t="5429" r="609" b="5158"/>
          <a:stretch/>
        </p:blipFill>
        <p:spPr>
          <a:xfrm>
            <a:off x="0" y="987480"/>
            <a:ext cx="6172200" cy="4181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262560" y="44863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Advantages/Disadvantages of Virtual Machines 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2360" y="1006200"/>
            <a:ext cx="831672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irtual-machine concept provides complete protection of system resources since each virtual machine is isolated from all other virtual machines.  This isolation, however, permits no direct sharing of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rtual-machine system is a perfect vehicle for operating-systems research and development.  System development is done on the virtual machine, instead of on a physical machine and so does not disrupt normal system op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irtual machine concept is difficult to implement due to the effort required to provide a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uplicate of the underlying machine. (Moving hardware function into the ‘software’ virtual machine also slows down the syste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 to schedule virtual machines and user processes for the physical CPU: switching from user to kernel modes, and for virtual user mode to/from virtual kernel mode. Difficulty with I/O – spooled vs. interactive. Difficulty with disk sharing – minidisks. Difficulty with message and memory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VMware – allows concurrent testing of application software on several ‘guest’ OS’s on the same host computer running any host OS using a powerful ‘virtualization layer’ that abstracts the underlying CPU into VM, V-memory, and V-devices to suit each ‘guest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19800" y="4694400"/>
            <a:ext cx="26132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4200" y="993240"/>
            <a:ext cx="7881840" cy="36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convenient environment for program development and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of them are simply user interfaces to system calls; others are considerably more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management - Create, delete, copy, rename, print, dump, list, and generally manipulate files and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sk the system for info - date, time, amount of available memory, disk space, number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 provide detailed performance, logging, and debugg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, these programs format and print the output to the terminal or other outpu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systems implement  a registry - used to store and retrieve configura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03880" y="4703760"/>
            <a:ext cx="2714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Mware Archite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380" t="3047" r="380" b="4317"/>
          <a:stretch/>
        </p:blipFill>
        <p:spPr>
          <a:xfrm>
            <a:off x="301680" y="1019160"/>
            <a:ext cx="6616800" cy="4632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456240" y="4457880"/>
            <a:ext cx="268776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Java Virtual Machin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95" t="18935" r="395" b="18935"/>
          <a:stretch/>
        </p:blipFill>
        <p:spPr>
          <a:xfrm>
            <a:off x="533520" y="1270080"/>
            <a:ext cx="6387840" cy="3000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4320" y="4435560"/>
            <a:ext cx="77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bout the .NET Framework VM – based on similar design philoso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951440" y="4735440"/>
            <a:ext cx="28303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Gener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808380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s are designed to run on any of a class of machines; the system must be configured for each specific computer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GEN program obtains information concerning the specific configuration of the hardwar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o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tarting a computer by loading the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otstrap pro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de stored in ROM that is able to locate the kernel, load it into memory, and start its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65720" y="3846600"/>
            <a:ext cx="30290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Boo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7982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must be made available to hardware so hardware can star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piece of code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strap loa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locates the kernel, loads it into memory, and starts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it is a two-step process whe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b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t fixed location loads the bootstrap lo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power is initialized on the system, execution starts at a fixed memory location (ROM-ba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mware used to hold initial boot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811840" y="4253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nd of Chapter 2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Programs (cont’d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6720" y="904680"/>
            <a:ext cx="79675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mo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editors to create and modify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 commands to search contents of files or perform transformations of th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-language support - Compilers, assemblers, debuggers and interpreters sometimes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loading and execution- Absolute loaders, relocatable loaders, linkage editors, and overlay-loaders, debugging systems for higher-level and machine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- Provide the mechanism for creating virtual connections among processes, users, and 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send messages to one another’s screens, browse web pages, send electronic-mail messages, log in remotely, transfer files from one machine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19800" y="4516560"/>
            <a:ext cx="26132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Operating System Design and Implement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000" y="731880"/>
            <a:ext cx="7894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and Implementation of OS not “solvable”, but some approaches have proven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by defining goals and specif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ed by choice of hardware, type of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oals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goals – operating system should be convenient to use, easy to learn, reliable, safe, and f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goals – operating system should be easy to design, implement, and maintain, as well as flexible, reliable, error-free, and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principle to sepa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: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ill be done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sm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do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sms determine how to do something, policies decide what will be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paration of policy from mechanism is a very important principle, it allows maximum flexibility if policy decisions are to be changed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73920" y="4848120"/>
            <a:ext cx="26557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80409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structure of different OS’s can vary wid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 that influence choice of OS syste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goals – choice of hardware, usage, users, distribution, application-specificity, user-goals, system-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sms and Policies – what to do and how to do it (affecting many facets of the OS functionality, usage, management of resources, performanc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– choice of development language, which affects portability, ease of use, ease of maintenance and extensibility, performance/speed, tool support, integration with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19720" y="4614840"/>
            <a:ext cx="27291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mple Stru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83756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-DOS – written to provide the most functionality in the least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divided into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hough MS-DOS has some structure, its interfaces and levels of functionality are not well sepa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05320" y="38624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S-DOS Layer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721" t="758" r="11532" b="758"/>
          <a:stretch/>
        </p:blipFill>
        <p:spPr>
          <a:xfrm>
            <a:off x="946080" y="1082520"/>
            <a:ext cx="5156280" cy="4962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5880" y="2917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ered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1320" y="992160"/>
            <a:ext cx="799776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perating system is divided into a number of layers (levels), each built on top of lower layers.  The bottom layer (layer 0), is the hardware; the highest (layer N) is the user inte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modularity, layers are selected such that each uses functions (operations) and services of only lower-level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ayered architecture is either open or clo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open architecture some upper layers may directly access layers below (by-passing intermediate or support/service layers) [The MSDOS, or Xlib, system is an examp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losed architecture each upper layer is supported by the one immediately below it for services (none can by-pass to lower layers below it) [The UNIX is an examp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61120" y="4443480"/>
            <a:ext cx="26859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764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– limited by hardware functionality, the original UNIX operating system had limited structuring.  The UNIX OS consists of two separable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s of everything below the system-call interface and above the physical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the file system, CPU scheduling, memory management, and other operating-system functions; a large number of functions for o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02000" y="41655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9:11:13Z</dcterms:created>
  <dc:creator>Lucent End User</dc:creator>
  <dc:description/>
  <dc:language>en-US</dc:language>
  <cp:lastModifiedBy>CSE</cp:lastModifiedBy>
  <cp:lastPrinted>2001-06-14T13:58:17Z</cp:lastPrinted>
  <dcterms:modified xsi:type="dcterms:W3CDTF">2008-01-22T18:55:08Z</dcterms:modified>
  <cp:revision>75</cp:revision>
  <dc:subject/>
  <dc:title>2.01</dc:title>
</cp:coreProperties>
</file>