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3.</a:t>
            </a:r>
            <a:fld id="{312B7205-2886-4B31-B838-9E3717BD6D4A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5880" y="4245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139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ob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t of all processes 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ady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t of all processes residing in main memory, ready and waiting to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ice que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t of processes waiting for an I/O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igration between the various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27680" y="3890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0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838" t="27297" r="838" b="27858"/>
          <a:stretch/>
        </p:blipFill>
        <p:spPr>
          <a:xfrm>
            <a:off x="1009800" y="1295280"/>
            <a:ext cx="6905520" cy="2362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67360" y="3992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ady Queue And Various I/O Device Queu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7365" t="517" r="7365" b="1550"/>
          <a:stretch/>
        </p:blipFill>
        <p:spPr>
          <a:xfrm>
            <a:off x="246240" y="1163520"/>
            <a:ext cx="5254560" cy="3711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0920" y="3890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presentation of Process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664" t="11596" r="890" b="12133"/>
          <a:stretch/>
        </p:blipFill>
        <p:spPr>
          <a:xfrm>
            <a:off x="468360" y="1136520"/>
            <a:ext cx="5921280" cy="4200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95880" y="3833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7042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-term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job scheduler) – selects which processes should be brought into the 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rt-term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CPU scheduler) – selects which process should be executed next and allocates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82960" y="3745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ition of Medium Term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808" t="26687" r="1011" b="26687"/>
          <a:stretch/>
        </p:blipFill>
        <p:spPr>
          <a:xfrm>
            <a:off x="792000" y="1201680"/>
            <a:ext cx="7829640" cy="278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21040" y="4210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875880"/>
            <a:ext cx="69804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scheduler is invoked very frequently (millisecond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ust be f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scheduler is invoked very infrequently (seconds, minut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y be s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ng-term scheduler control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gree of multi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can be described as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 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pends more time doing I/O than computations, many short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 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pends more time doing computations; few very long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7440" y="4165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34400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CPU switches to another process, the system must save the state of the old process and load the saved state for the ne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ependent on hardwar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4120" y="4037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036800"/>
            <a:ext cx="71834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process create children processes, which, in turn create other processes, forming a tree of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and children share all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hare subset of parent’s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and child share no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and children execute concur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ent waits until children 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38680" y="4137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 duplicate of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 has a program loaded in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 call creates new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 call used after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place the process’ memory space with a new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75440" y="4021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 on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 Client-Serv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40280" y="33242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09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7940" t="758" r="8129" b="507"/>
          <a:stretch/>
        </p:blipFill>
        <p:spPr>
          <a:xfrm>
            <a:off x="398520" y="792000"/>
            <a:ext cx="5638680" cy="4975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95880" y="3470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 Program Forking Separate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#include &lt;unistd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int pi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/* fork another proces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pid = fork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if (pid &lt; 0) { /* error occurred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fprintf(stderr, "Fork Failed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exit(-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else if (pid == 0) { /* child proces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execlp("/bin/ls","ls",NUL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else { /* parent proces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/* parent will wait for the child to complet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wait(NUL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printf("Child Complete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exit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	</a:t>
            </a: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36e25"/>
                </a:solidFill>
                <a:latin typeface="Monaco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80000" y="35863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1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384" t="33248" r="576" b="33253"/>
          <a:stretch/>
        </p:blipFill>
        <p:spPr>
          <a:xfrm>
            <a:off x="795240" y="1341360"/>
            <a:ext cx="6558120" cy="1663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49920" y="38466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es Tree on a UNI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664" t="11008" r="528" b="10809"/>
          <a:stretch/>
        </p:blipFill>
        <p:spPr>
          <a:xfrm>
            <a:off x="1219320" y="919080"/>
            <a:ext cx="5473440" cy="3429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76760" y="4486320"/>
            <a:ext cx="2757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50800" y="918720"/>
            <a:ext cx="754704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executes last statement and asks the operating system to decide it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 data from child to parent (vi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’ resources are deallocated by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may terminate execution of children processe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has exceeded allocat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sk assigned to child is no longer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arent is ex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perating system do not allow child to continue if its parent term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12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hildren terminated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scading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22800" y="4282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010640" cy="30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perating system executes a variety of progra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ch system –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-shared systems – user programs or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book uses the term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most interchangea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– a program in execution; process execution must progress in sequential fa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56080" y="3960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3.0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7092" t="1191" r="27122" b="1191"/>
          <a:stretch/>
        </p:blipFill>
        <p:spPr>
          <a:xfrm>
            <a:off x="3591000" y="1081080"/>
            <a:ext cx="2871720" cy="4592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9120" y="3905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6051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The process is being cre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Instructions are being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The process is waiting for some event to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The process is waiting to be assigned to a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in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The process has finished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1520" y="3935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agram of 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58" t="24142" r="690" b="24418"/>
          <a:stretch/>
        </p:blipFill>
        <p:spPr>
          <a:xfrm>
            <a:off x="992160" y="1231920"/>
            <a:ext cx="6829560" cy="2665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99120" y="4035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ssociated with ea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schedul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-manage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 statu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6120" y="3760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7088" t="359" r="27413" b="1083"/>
          <a:stretch/>
        </p:blipFill>
        <p:spPr>
          <a:xfrm>
            <a:off x="2052720" y="1246320"/>
            <a:ext cx="2663640" cy="432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10280" y="3527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witch From Process to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803" t="871" r="4803" b="290"/>
          <a:stretch/>
        </p:blipFill>
        <p:spPr>
          <a:xfrm>
            <a:off x="520560" y="880920"/>
            <a:ext cx="6321600" cy="3659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57960" y="4732200"/>
            <a:ext cx="28591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2:46:17Z</dcterms:created>
  <dc:creator>Marilyn Turnamian</dc:creator>
  <dc:description/>
  <dc:language>en-US</dc:language>
  <cp:lastModifiedBy>cse</cp:lastModifiedBy>
  <cp:lastPrinted>2001-06-14T14:14:54Z</cp:lastPrinted>
  <dcterms:modified xsi:type="dcterms:W3CDTF">2009-02-19T21:45:44Z</dcterms:modified>
  <cp:revision>91</cp:revision>
  <dc:subject/>
  <dc:title>Module 4:  Processes</dc:title>
</cp:coreProperties>
</file>