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0410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3.</a:t>
            </a:r>
            <a:fld id="{9780AE76-BCCF-43C9-AB7C-3DA277AAE42D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 rot="8361600">
            <a:off x="1609200" y="4961520"/>
            <a:ext cx="9720" cy="1440"/>
          </a:xfrm>
          <a:custGeom>
            <a:avLst/>
            <a:gdLst/>
            <a:ahLst/>
            <a:rect l="l" t="t" r="r" b="b"/>
            <a:pathLst>
              <a:path w="20" h="4">
                <a:moveTo>
                  <a:pt x="20" y="4"/>
                </a:moveTo>
                <a:lnTo>
                  <a:pt x="0" y="0"/>
                </a:lnTo>
                <a:lnTo>
                  <a:pt x="16" y="0"/>
                </a:lnTo>
                <a:lnTo>
                  <a:pt x="2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 rot="10665600">
            <a:off x="1188720" y="4204440"/>
            <a:ext cx="4680" cy="1800"/>
          </a:xfrm>
          <a:custGeom>
            <a:avLst/>
            <a:gdLst/>
            <a:ahLst/>
            <a:rect l="l" t="t" r="r" b="b"/>
            <a:pathLst>
              <a:path w="12" h="4">
                <a:moveTo>
                  <a:pt x="12" y="4"/>
                </a:moveTo>
                <a:lnTo>
                  <a:pt x="0" y="0"/>
                </a:lnTo>
                <a:lnTo>
                  <a:pt x="12" y="0"/>
                </a:lnTo>
                <a:lnTo>
                  <a:pt x="1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64200" y="4206960"/>
            <a:ext cx="7920" cy="9360"/>
          </a:xfrm>
          <a:custGeom>
            <a:avLst/>
            <a:gdLst/>
            <a:ahLst/>
            <a:rect l="l" t="t" r="r" b="b"/>
            <a:pathLst>
              <a:path w="12" h="12">
                <a:moveTo>
                  <a:pt x="7" y="12"/>
                </a:moveTo>
                <a:lnTo>
                  <a:pt x="0" y="10"/>
                </a:lnTo>
                <a:lnTo>
                  <a:pt x="12" y="0"/>
                </a:lnTo>
                <a:lnTo>
                  <a:pt x="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360" y="6613560"/>
            <a:ext cx="187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1658880" y="1109520"/>
            <a:ext cx="4680" cy="1800"/>
          </a:xfrm>
          <a:custGeom>
            <a:avLst/>
            <a:gdLst/>
            <a:ahLst/>
            <a:rect l="l" t="t" r="r" b="b"/>
            <a:pathLst>
              <a:path w="13" h="0">
                <a:moveTo>
                  <a:pt x="13" y="0"/>
                </a:moveTo>
                <a:lnTo>
                  <a:pt x="0" y="0"/>
                </a:lnTo>
                <a:lnTo>
                  <a:pt x="7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898560" y="1170000"/>
            <a:ext cx="32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10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-1467000" y="888840"/>
            <a:ext cx="6480" cy="180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7"/>
                </a:moveTo>
                <a:lnTo>
                  <a:pt x="12" y="0"/>
                </a:lnTo>
                <a:lnTo>
                  <a:pt x="18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-1639800" y="1144440"/>
            <a:ext cx="1440" cy="6480"/>
          </a:xfrm>
          <a:custGeom>
            <a:avLst/>
            <a:gdLst/>
            <a:ahLst/>
            <a:rect l="l" t="t" r="r" b="b"/>
            <a:pathLst>
              <a:path w="6" h="16">
                <a:moveTo>
                  <a:pt x="0" y="16"/>
                </a:moveTo>
                <a:lnTo>
                  <a:pt x="6" y="0"/>
                </a:lnTo>
                <a:lnTo>
                  <a:pt x="3" y="13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-1247760" y="1146240"/>
            <a:ext cx="4680" cy="7920"/>
          </a:xfrm>
          <a:custGeom>
            <a:avLst/>
            <a:gdLst/>
            <a:ahLst/>
            <a:rect l="l" t="t" r="r" b="b"/>
            <a:pathLst>
              <a:path w="11" h="20">
                <a:moveTo>
                  <a:pt x="8" y="20"/>
                </a:moveTo>
                <a:lnTo>
                  <a:pt x="0" y="0"/>
                </a:lnTo>
                <a:lnTo>
                  <a:pt x="11" y="16"/>
                </a:lnTo>
                <a:lnTo>
                  <a:pt x="8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1101600" y="1228680"/>
            <a:ext cx="1440" cy="648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14"/>
                </a:moveTo>
                <a:lnTo>
                  <a:pt x="7" y="0"/>
                </a:lnTo>
                <a:lnTo>
                  <a:pt x="7" y="7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-1303200" y="1270080"/>
            <a:ext cx="12600" cy="1440"/>
          </a:xfrm>
          <a:custGeom>
            <a:avLst/>
            <a:gdLst/>
            <a:ahLst/>
            <a:rect l="l" t="t" r="r" b="b"/>
            <a:pathLst>
              <a:path w="30" h="3">
                <a:moveTo>
                  <a:pt x="0" y="3"/>
                </a:moveTo>
                <a:lnTo>
                  <a:pt x="15" y="0"/>
                </a:lnTo>
                <a:lnTo>
                  <a:pt x="3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176480" y="885960"/>
            <a:ext cx="4680" cy="9360"/>
          </a:xfrm>
          <a:custGeom>
            <a:avLst/>
            <a:gdLst/>
            <a:ahLst/>
            <a:rect l="l" t="t" r="r" b="b"/>
            <a:pathLst>
              <a:path w="9" h="24">
                <a:moveTo>
                  <a:pt x="0" y="24"/>
                </a:moveTo>
                <a:lnTo>
                  <a:pt x="9" y="0"/>
                </a:lnTo>
                <a:lnTo>
                  <a:pt x="6" y="17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operating Process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1282680"/>
            <a:ext cx="660276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ess cannot affect or be affected by the execution of another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operat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ess can affect or be affected by the execution of another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tages of process co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shar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ation speed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941720" y="42386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rect Commun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1282680"/>
            <a:ext cx="6762960" cy="28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must name each other explicitl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, mess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– send a message to process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, mess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– receive a message from process 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ies of communication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s are established automatic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ssociated with exactly one pair of communicating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ween each pair there exists exactly one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ink may be unidirectional, but is usually bi-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986360" y="41655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direct Commun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597852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s are directed and received from mailboxes (also referred to as por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mailbox has a unique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es can communicate only if they share a mail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erties of communication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established only if processes share a common mail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link may be associated with many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pair of processes may share several communication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may be unidirectional or bi-direc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580000" y="41529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direct Commun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725652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new mail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 and receive messages through mail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roy a mail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itives are defined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, mess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– send a message to mailbox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, mess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– receive a message from mailbox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1440" y="42400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direct Commun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3880" y="949320"/>
            <a:ext cx="6197760" cy="31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lbox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hare mailbox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sends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ce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o gets the messa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a link to be associated with at most two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only one process at a time to execute a receive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the system to select arbitrarily the receiver.  Sender is notified who the receiver w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464080" y="4094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nchroniz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400" y="890280"/>
            <a:ext cx="687852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53880" indent="-3538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passing may be either blocking or non-blo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onsider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ing se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 the sender block until the message is recei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ing receiv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 the receiver block until a message i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block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onsider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block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 has the sender send the message and conti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block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 has the receiver receive a valid message or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18280" y="396396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uffer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690912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ue of messages attached to the link; implemented in one of three 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ro capacity – 0 messag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 must wait for receiver (rendezvo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ed capacity – finite length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ssag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 must wait if link f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bounded capacity – infinite leng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 never wa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05400" y="40356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ent-Server Commun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3598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te Procedure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te Method Invocation (Ja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1120" y="36003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cke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3598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ocket is defined as a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dpoint for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atenation of IP address and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ocke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1.25.19.8:16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fers to por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 hos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1.25.19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consists between a pair of so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633840" y="39481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cket Commun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421" t="5055" r="631" b="4774"/>
          <a:stretch/>
        </p:blipFill>
        <p:spPr>
          <a:xfrm>
            <a:off x="325440" y="1292400"/>
            <a:ext cx="5208480" cy="3987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908680" y="28749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mote Procedure Cal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64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te procedure call (RPC) abstracts procedure calls between processes on networked 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b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client-side proxy for the actual procedure on the serv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lient-side stub locates the server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rshal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rver-side stub receives this message, unpacks the marshalled parameters, and peforms the procedure on the serv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19440" y="42530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ducer-Consumer Probl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3598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digm for cooperating processes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duc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ess produces information that is consumed by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sum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bounded-buf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laces no practical limit on the size of the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ounded-buff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ssumes that there is a fixed buffer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56120" y="4006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ecution of RPC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19237" t="1039" r="19432" b="1039"/>
          <a:stretch/>
        </p:blipFill>
        <p:spPr>
          <a:xfrm>
            <a:off x="679320" y="808200"/>
            <a:ext cx="4357800" cy="5219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154480" y="21636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mote Method Inv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738828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te Method Invocation (RMI) is a Java mechanism similar to RP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I allows a Java program on one machine to invoke a method on a remote 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365" t="25004" r="362" b="25004"/>
          <a:stretch/>
        </p:blipFill>
        <p:spPr>
          <a:xfrm>
            <a:off x="498600" y="2803680"/>
            <a:ext cx="5097240" cy="26161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740560" y="4400640"/>
            <a:ext cx="25970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3.17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450" t="16469" r="450" b="16169"/>
          <a:stretch/>
        </p:blipFill>
        <p:spPr>
          <a:xfrm>
            <a:off x="558720" y="939960"/>
            <a:ext cx="6777000" cy="3149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589640" y="42544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2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arshalling Parameter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406" t="12792" r="410" b="12517"/>
          <a:stretch/>
        </p:blipFill>
        <p:spPr>
          <a:xfrm>
            <a:off x="487440" y="958680"/>
            <a:ext cx="6329160" cy="3424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373720" y="4425840"/>
            <a:ext cx="294624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8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3.13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594" t="6600" r="594" b="7127"/>
          <a:stretch/>
        </p:blipFill>
        <p:spPr>
          <a:xfrm>
            <a:off x="525600" y="731880"/>
            <a:ext cx="5133960" cy="3540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154480" y="4352760"/>
            <a:ext cx="3208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Bounded-Buffer – Shared-Memory Solu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1282680"/>
            <a:ext cx="5775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6e25"/>
                </a:solidFill>
                <a:latin typeface="Monaco"/>
              </a:rPr>
              <a:t>public interface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6e25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236e25"/>
                </a:solidFill>
                <a:latin typeface="Monaco"/>
              </a:rPr>
              <a:t> </a:t>
            </a:r>
            <a:r>
              <a:rPr b="0" lang="en-US" sz="1800" spc="-1" strike="noStrike">
                <a:solidFill>
                  <a:srgbClr val="236e25"/>
                </a:solidFill>
                <a:latin typeface="Monaco"/>
              </a:rPr>
              <a:t>// producers call this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236e25"/>
                </a:solidFill>
                <a:latin typeface="Monaco"/>
              </a:rPr>
              <a:t>public abstract void insert(Object ite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236e25"/>
                </a:solidFill>
                <a:latin typeface="Monaco"/>
              </a:rPr>
              <a:t>// consumers call this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236e25"/>
                </a:solidFill>
                <a:latin typeface="Monaco"/>
              </a:rPr>
              <a:t>public abstract Object remov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6e25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45120" y="41083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Bounded-Buffer – Shared Memory Solution 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3598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aco"/>
              </a:rPr>
              <a:t>import java.util.*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aco"/>
              </a:rPr>
              <a:t>public class BoundedBuffer implements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onaco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aco"/>
              </a:rPr>
              <a:t>private static final int BUFFER SIZE = 5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aco"/>
              </a:rPr>
              <a:t>private int count; // number of items in th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aco"/>
              </a:rPr>
              <a:t>private int in; // points to the next free pos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aco"/>
              </a:rPr>
              <a:t>private int out; // points to the next full pos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aco"/>
              </a:rPr>
              <a:t>private Object[] buff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aco"/>
              </a:rPr>
              <a:t>public BoundedBuffer()  </a:t>
            </a:r>
            <a:r>
              <a:rPr b="0" i="1" lang="en-US" sz="1000" spc="-1" strike="noStrike">
                <a:solidFill>
                  <a:srgbClr val="000000"/>
                </a:solidFill>
                <a:latin typeface="Monaco"/>
              </a:rPr>
              <a:t>{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aco"/>
              </a:rPr>
              <a:t>// buffer is initially emp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aco"/>
              </a:rPr>
              <a:t>count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aco"/>
              </a:rPr>
              <a:t>in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aco"/>
              </a:rPr>
              <a:t>out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aco"/>
              </a:rPr>
              <a:t>buffer = new Object[BUFFER SIZE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i="1" lang="en-US" sz="10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aco"/>
              </a:rPr>
              <a:t>// producers calls this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aco"/>
              </a:rPr>
              <a:t>public void insert(Object item) </a:t>
            </a:r>
            <a:r>
              <a:rPr b="0" i="1" lang="en-US" sz="1000" spc="-1" strike="noStrike">
                <a:solidFill>
                  <a:srgbClr val="000000"/>
                </a:solidFill>
                <a:latin typeface="Monaco"/>
              </a:rPr>
              <a:t>{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Monaco"/>
              </a:rPr>
              <a:t>// Slide 4.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aco"/>
              </a:rPr>
              <a:t>// consumers calls this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aco"/>
              </a:rPr>
              <a:t>public Object remove() </a:t>
            </a:r>
            <a:r>
              <a:rPr b="0" i="1" lang="en-US" sz="1000" spc="-1" strike="noStrike">
                <a:solidFill>
                  <a:srgbClr val="000000"/>
                </a:solidFill>
                <a:latin typeface="Monaco"/>
              </a:rPr>
              <a:t>{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Monaco"/>
              </a:rPr>
              <a:t>// Figure 4.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76960" y="3905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ounded-Buffer – Insert() Method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1282680"/>
            <a:ext cx="5268960" cy="30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ublic void insert(Object item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while (count == BUFFER SIZ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; // do nothing -- no free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// add an item to the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++cou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uffer[in] = it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n = (in + 1) % BUFFER SIZ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624640" y="39481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ounded Buffer – Remove() Method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51372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Object remove() </a:t>
            </a:r>
            <a:r>
              <a:rPr b="0" i="1" lang="en-US" sz="1400" spc="-1" strike="noStrike">
                <a:solidFill>
                  <a:srgbClr val="000000"/>
                </a:solidFill>
                <a:latin typeface="Monaco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bject 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hile (count =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; // do nothing -- nothing to consu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// remove an item from the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--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item = buffer[ou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ut = (out + 1) % BUFFER SIZ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turn 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94400" y="36576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terprocess Communication (IPC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491976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sm for processes to communicate and to synchronize their 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system – processes communicate with each other without resorting to shared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C facility provides two opera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– message size fixed or vari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sh to communicate, they ne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tween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hange messages via send/rece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of communication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(e.g., shared memory, hardware b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(e.g., logical proper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769000" y="4181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mplementation Ques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702468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are links establish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a link be associated with more than two process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many links can there be between every pair of communicating process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capacity of a lin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size of a message that the link can accommodate fixed or variab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link unidirectional or bi-direction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157640" y="41227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2:46:17Z</dcterms:created>
  <dc:creator>Marilyn Turnamian</dc:creator>
  <dc:description/>
  <dc:language>en-US</dc:language>
  <cp:lastModifiedBy>CSE</cp:lastModifiedBy>
  <cp:lastPrinted>2001-06-14T14:14:54Z</cp:lastPrinted>
  <dcterms:modified xsi:type="dcterms:W3CDTF">2008-01-14T16:26:28Z</dcterms:modified>
  <cp:revision>92</cp:revision>
  <dc:subject/>
  <dc:title>Module 4:  Processes</dc:title>
</cp:coreProperties>
</file>