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5.</a:t>
            </a:r>
            <a:fld id="{8807FAA7-20E9-4875-80FD-47339D6D7DEA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32640" y="4289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rst-Come, First-Served (FCFS) Schedul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977760"/>
            <a:ext cx="7386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se that the processes arrive in the orde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0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24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aiting time:  (0 + 24 + 27)/3 =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63880" y="2855880"/>
            <a:ext cx="5552280" cy="1129320"/>
            <a:chOff x="1163880" y="2855880"/>
            <a:chExt cx="5552280" cy="1129320"/>
          </a:xfrm>
        </p:grpSpPr>
        <p:sp>
          <p:nvSpPr>
            <p:cNvPr id="127" name=""/>
            <p:cNvSpPr/>
            <p:nvPr/>
          </p:nvSpPr>
          <p:spPr>
            <a:xfrm>
              <a:off x="1326960" y="285588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29800" y="29124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91760" y="29124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6160" y="29124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6960" y="3465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84760" y="3465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80000" y="2855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4400" y="2855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0000" y="3465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94400" y="3465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3560" y="3616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7960" y="3616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2360" y="3616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63880" y="361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21240" y="4689360"/>
            <a:ext cx="2917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CFS Schedul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833040"/>
            <a:ext cx="7140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se that the processes arrive in th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aiting time:   (6 + 0 + 3)/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ch better than previous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voy eff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rt process behind lo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11480" y="1836720"/>
            <a:ext cx="5571000" cy="1129680"/>
            <a:chOff x="1311480" y="1836720"/>
            <a:chExt cx="5571000" cy="1129680"/>
          </a:xfrm>
        </p:grpSpPr>
        <p:sp>
          <p:nvSpPr>
            <p:cNvPr id="145" name=""/>
            <p:cNvSpPr/>
            <p:nvPr/>
          </p:nvSpPr>
          <p:spPr>
            <a:xfrm flipH="1">
              <a:off x="1461240" y="183672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011200" y="1893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648880" y="1893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734480" y="1893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19760" y="244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61960" y="244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7080" y="183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52680" y="183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67080" y="244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2680" y="244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222360" y="259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307960" y="259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448320" y="2598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11120" y="259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59480" y="4514760"/>
            <a:ext cx="2495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ortest-Job-First (SJR)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8480" y="1036440"/>
            <a:ext cx="7213680" cy="30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with each process the length of its next CPU burst.  Use these lengths to schedule the process with the shortes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chem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reemptive – once CPU given to the process it cannot be preempted until completes its CPU bu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emptive – if a new process arrives with CPU burst length less than remaining time of current executing process, preempt.  This scheme is know a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est-Remaining-Time-First (SR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JF is optimal – gives minimum average waiting time for a given set of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972040" y="4340160"/>
            <a:ext cx="2568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Non-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3720" y="861480"/>
            <a:ext cx="730116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JF (non-preemp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aiting time = (0 + 6 + 3 + 7)/4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16160" y="2892600"/>
            <a:ext cx="5571000" cy="1129320"/>
            <a:chOff x="1316160" y="2892600"/>
            <a:chExt cx="5571000" cy="1129320"/>
          </a:xfrm>
        </p:grpSpPr>
        <p:sp>
          <p:nvSpPr>
            <p:cNvPr id="166" name=""/>
            <p:cNvSpPr/>
            <p:nvPr/>
          </p:nvSpPr>
          <p:spPr>
            <a:xfrm flipH="1">
              <a:off x="1465920" y="289260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159280" y="29491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759480" y="29491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673880" y="29491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444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6664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9840" y="2892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52640" y="2892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264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244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1800" y="365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312640" y="365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453000" y="3653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315800" y="365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816880" y="29491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9160" y="2892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7156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368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456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48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404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984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059000" y="3653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9108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9564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0056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29160" y="3502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202000" y="3653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004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496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9880" y="3389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118200" y="4354560"/>
            <a:ext cx="2583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45992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JF (preemp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waiting time = (9 + 1 + 0 +2)/4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85920" y="3259080"/>
            <a:ext cx="5920200" cy="1205640"/>
            <a:chOff x="1285920" y="3259080"/>
            <a:chExt cx="5920200" cy="1205640"/>
          </a:xfrm>
        </p:grpSpPr>
        <p:sp>
          <p:nvSpPr>
            <p:cNvPr id="201" name=""/>
            <p:cNvSpPr/>
            <p:nvPr/>
          </p:nvSpPr>
          <p:spPr>
            <a:xfrm flipH="1">
              <a:off x="1436400" y="3273120"/>
              <a:ext cx="556272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51956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81484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8204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0040" y="3868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36400" y="3882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79600" y="32731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6240" y="3259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22400" y="3882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657160" y="409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895040" y="409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171760" y="402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85560" y="4034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64364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8920" y="32731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4132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0344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9600" y="3882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190680" y="409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6084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540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7032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98920" y="3882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28760" y="409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7980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472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8964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8000" y="3259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41520" y="3259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50064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015240" y="3315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4200" y="3770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771960" y="402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59520" y="4514760"/>
            <a:ext cx="25686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rmining Length of Next CPU Burs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28524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only estimate the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done by using the length of previous CPU bursts, using exponential aver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62240" y="2246400"/>
                <a:ext cx="4497480" cy="21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ual length of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PU  burst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dicted value for the next CPU  burs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d value of the past n CPU bursts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efine: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71920" y="3753000"/>
                <a:ext cx="21765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829480" y="4037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rediction of the Length of the Next CPU Bur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642" t="2279" r="642" b="2850"/>
          <a:stretch/>
        </p:blipFill>
        <p:spPr>
          <a:xfrm>
            <a:off x="404640" y="1081080"/>
            <a:ext cx="5867640" cy="422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299280" y="3787920"/>
            <a:ext cx="2844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 of Exponential Aver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2280" y="904680"/>
            <a:ext cx="75754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 history does not 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the actual last CPU burst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e expand the formula, we 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=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both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(1 -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re less than or equal to 1, each successive term has less weight than its prede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407200" y="4730760"/>
            <a:ext cx="30477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ority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29936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iority number (integer) is associated with ea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PU is allocated to the process with the highest priority (smallest integ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ghest prio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JF is a priority scheduling where priority is the predicted next CPU burs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rvation – low priority processes may never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ging – as time progresses increase the priority of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29280" y="4514760"/>
            <a:ext cx="25844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ound Robin (RR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812808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rocess gets a small unit of CPU tim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 quant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usually 10-100 milliseconds.  After this time has elapsed, the process is preempted and added to the end of the ready que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es in the ready queue and the time quantum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each process gets 1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CPU time in chunks of at mos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ime units at once.  No process waits more than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un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rg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large with respect to context switch, otherwise overhead is too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21600" y="4237200"/>
            <a:ext cx="262728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-Processor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-Time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s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Thread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18280" y="3281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RR with Time Quantum = 2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804600"/>
            <a:ext cx="7533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ntt chart is: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higher average turnaround than SJF, but bett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33720" y="3067200"/>
            <a:ext cx="6047280" cy="977040"/>
            <a:chOff x="1233720" y="3067200"/>
            <a:chExt cx="6047280" cy="977040"/>
          </a:xfrm>
        </p:grpSpPr>
        <p:grpSp>
          <p:nvGrpSpPr>
            <p:cNvPr id="255" name=""/>
            <p:cNvGrpSpPr/>
            <p:nvPr/>
          </p:nvGrpSpPr>
          <p:grpSpPr>
            <a:xfrm>
              <a:off x="1384200" y="3067200"/>
              <a:ext cx="5638320" cy="609120"/>
              <a:chOff x="1384200" y="3067200"/>
              <a:chExt cx="5638320" cy="609120"/>
            </a:xfrm>
          </p:grpSpPr>
          <p:sp>
            <p:nvSpPr>
              <p:cNvPr id="256" name=""/>
              <p:cNvSpPr/>
              <p:nvPr/>
            </p:nvSpPr>
            <p:spPr>
              <a:xfrm>
                <a:off x="138420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4796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1172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7548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3960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0336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6712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3088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9500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58760" y="30672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233720" y="3675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03880" y="3675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37400" y="3675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0400" y="3675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6360" y="3675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89880" y="3675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0040" y="3675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69520" y="3675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03040" y="3675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87320" y="3675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20840" y="3675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76960" y="4718160"/>
            <a:ext cx="25686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2262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CPU utilization obtained with multi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–I/O Burst Cycle – Process execution consists of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CPU execution and I/O 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burs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9480" y="3456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lternating Sequence of CPU And I/O Burs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034" t="788" r="30034" b="1575"/>
          <a:stretch/>
        </p:blipFill>
        <p:spPr>
          <a:xfrm>
            <a:off x="1193760" y="1062000"/>
            <a:ext cx="2817720" cy="5165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2440" y="25844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gram of CPU-burst Ti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624" t="6123" r="417" b="6123"/>
          <a:stretch/>
        </p:blipFill>
        <p:spPr>
          <a:xfrm>
            <a:off x="220680" y="1206360"/>
            <a:ext cx="5702400" cy="3733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3178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977760"/>
            <a:ext cx="7272360" cy="28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s from among the processes in memory that are ready to execute, and allocates the CPU to one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scheduling decisions may take place when a proc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rom running to wait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rom running to ready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 under 1 and 4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scheduling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67480" y="394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035000"/>
            <a:ext cx="71550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tcher module gives control of the CPU to the process selected by the short-term scheduler; this invol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time it takes for the dispatcher to stop one process and start another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1000" y="3963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980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utilization – keep the CPU as busy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 – # of processes that complete their execution per tim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around time – amount of time to execute a particula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ime – amount of time a process has been waiting in the 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time – amount of time it takes from when a request was submitted until the first response is produced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put  (for time-sharing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59600" y="4226040"/>
            <a:ext cx="27669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ization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CPU 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turnaround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waiting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respons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24360" y="3368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7:58:50Z</dcterms:created>
  <dc:creator>Marilyn Turnamian</dc:creator>
  <dc:description/>
  <dc:language>en-US</dc:language>
  <cp:lastModifiedBy>CSE</cp:lastModifiedBy>
  <cp:lastPrinted>2001-06-14T14:25:09Z</cp:lastPrinted>
  <dcterms:modified xsi:type="dcterms:W3CDTF">2008-01-21T21:54:29Z</dcterms:modified>
  <cp:revision>105</cp:revision>
  <dc:subject/>
  <dc:title>Module 6:  CPU Scheduling</dc:title>
</cp:coreProperties>
</file>