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04100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5.</a:t>
            </a:r>
            <a:fld id="{C1C871DF-9D14-4F93-A323-66C8D09B4E5B}" type="slidenum">
              <a:rPr b="1" lang="en-US" sz="1000" spc="-1" strike="noStrike">
                <a:solidFill>
                  <a:srgbClr val="99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V="1" rot="8361600">
            <a:off x="1609200" y="4961520"/>
            <a:ext cx="9720" cy="1440"/>
          </a:xfrm>
          <a:custGeom>
            <a:avLst/>
            <a:gdLst/>
            <a:ahLst/>
            <a:rect l="l" t="t" r="r" b="b"/>
            <a:pathLst>
              <a:path w="20" h="4">
                <a:moveTo>
                  <a:pt x="20" y="4"/>
                </a:moveTo>
                <a:lnTo>
                  <a:pt x="0" y="0"/>
                </a:lnTo>
                <a:lnTo>
                  <a:pt x="16" y="0"/>
                </a:lnTo>
                <a:lnTo>
                  <a:pt x="2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 rot="10665600">
            <a:off x="1188720" y="4204440"/>
            <a:ext cx="4680" cy="1800"/>
          </a:xfrm>
          <a:custGeom>
            <a:avLst/>
            <a:gdLst/>
            <a:ahLst/>
            <a:rect l="l" t="t" r="r" b="b"/>
            <a:pathLst>
              <a:path w="12" h="4">
                <a:moveTo>
                  <a:pt x="12" y="4"/>
                </a:moveTo>
                <a:lnTo>
                  <a:pt x="0" y="0"/>
                </a:lnTo>
                <a:lnTo>
                  <a:pt x="12" y="0"/>
                </a:lnTo>
                <a:lnTo>
                  <a:pt x="12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164200" y="4206960"/>
            <a:ext cx="7920" cy="9360"/>
          </a:xfrm>
          <a:custGeom>
            <a:avLst/>
            <a:gdLst/>
            <a:ahLst/>
            <a:rect l="l" t="t" r="r" b="b"/>
            <a:pathLst>
              <a:path w="12" h="12">
                <a:moveTo>
                  <a:pt x="7" y="12"/>
                </a:moveTo>
                <a:lnTo>
                  <a:pt x="0" y="10"/>
                </a:lnTo>
                <a:lnTo>
                  <a:pt x="12" y="0"/>
                </a:lnTo>
                <a:lnTo>
                  <a:pt x="7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Silberschatz, Galvin and Gagne ©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-360" y="6613560"/>
            <a:ext cx="187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Operating System Concep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1658880" y="1109520"/>
            <a:ext cx="4680" cy="1800"/>
          </a:xfrm>
          <a:custGeom>
            <a:avLst/>
            <a:gdLst/>
            <a:ahLst/>
            <a:rect l="l" t="t" r="r" b="b"/>
            <a:pathLst>
              <a:path w="13" h="0">
                <a:moveTo>
                  <a:pt x="13" y="0"/>
                </a:moveTo>
                <a:lnTo>
                  <a:pt x="0" y="0"/>
                </a:lnTo>
                <a:lnTo>
                  <a:pt x="7" y="0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898560" y="1170000"/>
            <a:ext cx="32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10" y="0"/>
                </a:lnTo>
                <a:lnTo>
                  <a:pt x="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-1479600" y="42372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-1467000" y="888840"/>
            <a:ext cx="6480" cy="180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7"/>
                </a:moveTo>
                <a:lnTo>
                  <a:pt x="12" y="0"/>
                </a:lnTo>
                <a:lnTo>
                  <a:pt x="18" y="0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-1639800" y="1144440"/>
            <a:ext cx="1440" cy="6480"/>
          </a:xfrm>
          <a:custGeom>
            <a:avLst/>
            <a:gdLst/>
            <a:ahLst/>
            <a:rect l="l" t="t" r="r" b="b"/>
            <a:pathLst>
              <a:path w="6" h="16">
                <a:moveTo>
                  <a:pt x="0" y="16"/>
                </a:moveTo>
                <a:lnTo>
                  <a:pt x="6" y="0"/>
                </a:lnTo>
                <a:lnTo>
                  <a:pt x="3" y="13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-1247760" y="1146240"/>
            <a:ext cx="4680" cy="7920"/>
          </a:xfrm>
          <a:custGeom>
            <a:avLst/>
            <a:gdLst/>
            <a:ahLst/>
            <a:rect l="l" t="t" r="r" b="b"/>
            <a:pathLst>
              <a:path w="11" h="20">
                <a:moveTo>
                  <a:pt x="8" y="20"/>
                </a:moveTo>
                <a:lnTo>
                  <a:pt x="0" y="0"/>
                </a:lnTo>
                <a:lnTo>
                  <a:pt x="11" y="16"/>
                </a:lnTo>
                <a:lnTo>
                  <a:pt x="8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-1101600" y="1228680"/>
            <a:ext cx="1440" cy="6480"/>
          </a:xfrm>
          <a:custGeom>
            <a:avLst/>
            <a:gdLst/>
            <a:ahLst/>
            <a:rect l="l" t="t" r="r" b="b"/>
            <a:pathLst>
              <a:path w="7" h="14">
                <a:moveTo>
                  <a:pt x="0" y="14"/>
                </a:moveTo>
                <a:lnTo>
                  <a:pt x="7" y="0"/>
                </a:lnTo>
                <a:lnTo>
                  <a:pt x="7" y="7"/>
                </a:lnTo>
                <a:lnTo>
                  <a:pt x="0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-1303200" y="1270080"/>
            <a:ext cx="12600" cy="1440"/>
          </a:xfrm>
          <a:custGeom>
            <a:avLst/>
            <a:gdLst/>
            <a:ahLst/>
            <a:rect l="l" t="t" r="r" b="b"/>
            <a:pathLst>
              <a:path w="30" h="3">
                <a:moveTo>
                  <a:pt x="0" y="3"/>
                </a:moveTo>
                <a:lnTo>
                  <a:pt x="15" y="0"/>
                </a:lnTo>
                <a:lnTo>
                  <a:pt x="3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1176480" y="885960"/>
            <a:ext cx="4680" cy="9360"/>
          </a:xfrm>
          <a:custGeom>
            <a:avLst/>
            <a:gdLst/>
            <a:ahLst/>
            <a:rect l="l" t="t" r="r" b="b"/>
            <a:pathLst>
              <a:path w="9" h="24">
                <a:moveTo>
                  <a:pt x="0" y="24"/>
                </a:moveTo>
                <a:lnTo>
                  <a:pt x="9" y="0"/>
                </a:lnTo>
                <a:lnTo>
                  <a:pt x="6" y="17"/>
                </a:lnTo>
                <a:lnTo>
                  <a:pt x="0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" name="" descr=""/>
          <p:cNvPicPr/>
          <p:nvPr/>
        </p:nvPicPr>
        <p:blipFill>
          <a:blip r:embed="rId2"/>
          <a:stretch/>
        </p:blipFill>
        <p:spPr>
          <a:xfrm>
            <a:off x="8118360" y="6010200"/>
            <a:ext cx="1011240" cy="611280"/>
          </a:xfrm>
          <a:prstGeom prst="rect">
            <a:avLst/>
          </a:prstGeom>
          <a:ln w="0">
            <a:noFill/>
          </a:ln>
        </p:spPr>
      </p:pic>
      <p:pic>
        <p:nvPicPr>
          <p:cNvPr id="1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00120" cy="110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179880" y="4829040"/>
            <a:ext cx="2349360" cy="14194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539720" y="3603600"/>
            <a:ext cx="6035760" cy="3430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algn="ctr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algn="ctr">
              <a:spcBef>
                <a:spcPts val="788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algn="ctr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>
              <a:spcBef>
                <a:spcPts val="451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>
              <a:spcBef>
                <a:spcPts val="451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Arial"/>
              </a:rPr>
              <a:t>Time Quantum and Context Switch Time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380" t="22277" r="568" b="22533"/>
          <a:stretch/>
        </p:blipFill>
        <p:spPr>
          <a:xfrm>
            <a:off x="593640" y="996840"/>
            <a:ext cx="6624720" cy="27687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89640" y="39196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242640"/>
            <a:ext cx="8280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Asymmetric Multiprocessor (ASMP) Scheduling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0880" y="2874960"/>
            <a:ext cx="1438200" cy="4636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e 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871640" y="1131840"/>
            <a:ext cx="5392800" cy="2184480"/>
            <a:chOff x="1871640" y="1131840"/>
            <a:chExt cx="5392800" cy="2184480"/>
          </a:xfrm>
        </p:grpSpPr>
        <p:sp>
          <p:nvSpPr>
            <p:cNvPr id="130" name=""/>
            <p:cNvSpPr/>
            <p:nvPr/>
          </p:nvSpPr>
          <p:spPr>
            <a:xfrm>
              <a:off x="2467080" y="1131840"/>
              <a:ext cx="3003480" cy="6969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PU (Schedule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71640" y="2235240"/>
              <a:ext cx="4253040" cy="2048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ystem B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846240" y="1828800"/>
              <a:ext cx="14040" cy="3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70240" y="2852640"/>
              <a:ext cx="1438200" cy="4636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pute 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62240" y="2844720"/>
              <a:ext cx="1438560" cy="4636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pute 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26240" y="2851200"/>
              <a:ext cx="1438200" cy="4636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pute 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73160" y="2438280"/>
              <a:ext cx="1584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3076560" y="2438280"/>
              <a:ext cx="1440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57600" y="2452680"/>
              <a:ext cx="14400" cy="37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79960" y="2438280"/>
              <a:ext cx="1440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421240" y="36450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5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Real-Time Schedu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68644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ard real-ti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ystems – required to complete a critical task within a guaranteed amount of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ft real-ti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puting – requires that critical processes receive priority over less fortunate 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94400" y="360036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1" dur="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hread Schedu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560" y="875880"/>
            <a:ext cx="7589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12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ls of thre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 level threads: managed by a thread library (higher level) and scheduled (based on, e.g., priorities to a designated kernel thread or a LW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rnel level threads: managed and scheduled by the OS to the actual CPU (hardwa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12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-contention scope (PC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eduling technique used to schedule user-level threads belonging to the same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12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-contention scope (SC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eduling technique used to schedule kernel-level threads to the CP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12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, POSIX, Pthread scheduling uses the following API’s – See Fig 5.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thread_attr_setscope(pthread_attr_t  *attr, int scop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thread_attr_getscope(pthread_attr_t  *attr, int *scop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35560" y="4487760"/>
            <a:ext cx="2583000" cy="19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" dur="1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olaris 2 Schedu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13648" t="1088" r="13648" b="817"/>
          <a:stretch/>
        </p:blipFill>
        <p:spPr>
          <a:xfrm>
            <a:off x="523800" y="1157400"/>
            <a:ext cx="4533840" cy="45878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591160" y="33400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3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5.11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8985" t="556" r="9402" b="1112"/>
          <a:stretch/>
        </p:blipFill>
        <p:spPr>
          <a:xfrm>
            <a:off x="260280" y="765000"/>
            <a:ext cx="4961160" cy="44834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532480" y="30780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9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Windows XP Prioriti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388" t="24452" r="388" b="23168"/>
          <a:stretch/>
        </p:blipFill>
        <p:spPr>
          <a:xfrm>
            <a:off x="333360" y="1011240"/>
            <a:ext cx="7101000" cy="28116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038480" y="38196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5" dur="1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inux Schedu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55720" y="904680"/>
            <a:ext cx="7866000" cy="35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algorithms: time-sharing and real-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-sha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ized credit-based – process with most credits is scheduled 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dit subtracted when timer interrupt occ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credit = 0, another process cho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all processes have credit = 0, recrediting occ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actors including priority and his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l-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ft real-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x.1b compliant – two cla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CFS and 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st priority process always runs fir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095880" y="45720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1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inux Scheduling – priorities vs t-slic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602" t="12561" r="1004" b="13092"/>
          <a:stretch/>
        </p:blipFill>
        <p:spPr>
          <a:xfrm>
            <a:off x="233280" y="1403280"/>
            <a:ext cx="6104160" cy="34592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sp>
        <p:nvSpPr>
          <p:cNvPr id="161" name=""/>
          <p:cNvSpPr/>
          <p:nvPr/>
        </p:nvSpPr>
        <p:spPr>
          <a:xfrm>
            <a:off x="825480" y="781200"/>
            <a:ext cx="68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rocessor maintains its own ‘runqueue’ for designated tas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127920" y="4253040"/>
            <a:ext cx="2714400" cy="20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inux Schedu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594" t="18206" r="395" b="18472"/>
          <a:stretch/>
        </p:blipFill>
        <p:spPr>
          <a:xfrm>
            <a:off x="382680" y="2000160"/>
            <a:ext cx="5897520" cy="28288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sp>
        <p:nvSpPr>
          <p:cNvPr id="165" name=""/>
          <p:cNvSpPr/>
          <p:nvPr/>
        </p:nvSpPr>
        <p:spPr>
          <a:xfrm>
            <a:off x="381960" y="981000"/>
            <a:ext cx="739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n SMP system, Linux processors schedule all tasks, first, from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 array,’ and, then switch to the ‘expired array’ when all time sl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ire and get res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910120" y="431172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3" dur="1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lgorithm Evalu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26560" y="1282680"/>
            <a:ext cx="747396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istic modeling – takes a particular predetermined workload and defines the performance of each algorithm  for that workl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ueing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913280" y="365904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9" dur="1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93300"/>
                </a:solidFill>
                <a:latin typeface="Arial"/>
              </a:rPr>
              <a:t>Turnaround Time Varies With The Time Quantum</a:t>
            </a:r>
            <a:endParaRPr b="1" lang="en-US" sz="27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5371" t="768" r="5179" b="1024"/>
          <a:stretch/>
        </p:blipFill>
        <p:spPr>
          <a:xfrm>
            <a:off x="179280" y="777960"/>
            <a:ext cx="5923080" cy="48765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823000" y="34560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Evaluation of CPU Schedulers by Simulation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27383" t="17498" r="32048" b="51475"/>
          <a:stretch/>
        </p:blipFill>
        <p:spPr>
          <a:xfrm>
            <a:off x="297000" y="1112760"/>
            <a:ext cx="5165640" cy="38419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634000" y="38196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5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nd of Chapter 5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ultilevel Queu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920" y="947520"/>
            <a:ext cx="7344000" cy="35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y queue is partitioned into separate queues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ground (interactive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ground (bat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queue has its own scheduling algorith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ground – 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ground – FC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eduling must be done between the que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xed priority scheduling; (i.e., serve all from foreground then from background).  Possibility of starv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slice – each queue gets a certain amount of CPU time which it can schedule amongst its processes; i.e., 80% to foreground in 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% to background in FCF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902200" y="4614840"/>
            <a:ext cx="272736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ultilevel Queue Schedu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233" t="6743" r="458" b="6743"/>
          <a:stretch/>
        </p:blipFill>
        <p:spPr>
          <a:xfrm>
            <a:off x="196920" y="936720"/>
            <a:ext cx="5511600" cy="36226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780160" y="355752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ultilevel Feedback Queu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778880" cy="30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rocess can move between the various queues; aging can be implemented this 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level-feedback-queue scheduler defined by the following paramete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of que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eduling algorithms for each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hod used to determine when to upgrade a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hod used to determine when to demote a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hod used to determine which queue a process will enter when that process needs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305400" y="4384800"/>
            <a:ext cx="264168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xample of Multilevel Feedback Queu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6560" y="1282680"/>
            <a:ext cx="78505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ee queue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time quantum 8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time quantum 16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FC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new job enters queu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ch is served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CFS. When it gains CPU, job receives 8 milliseconds.  If it does not finish in 8 milliseconds, job is moved to queu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ob is again served FCFS and receives 16 additional milliseconds.  If it still does not complete, it is preempted and moved to queu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26160" y="4311720"/>
            <a:ext cx="306216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ultilevel Feedback Queu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609" t="10026" r="1015" b="9755"/>
          <a:stretch/>
        </p:blipFill>
        <p:spPr>
          <a:xfrm>
            <a:off x="230040" y="927000"/>
            <a:ext cx="6147000" cy="37594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853240" y="43704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ultiple-Processor Schedu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26560" y="1282320"/>
            <a:ext cx="7866360" cy="29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U scheduling more complex when multiple CPUs are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omogeneous processo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thin a multi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oad shar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symmetric multiprocess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only one processor accesses the system data structures, alleviating the need for data sha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 balancing techniques (need not be mutually exclusi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sh migration (process migration to idle CP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ll migration (idle CPUs offload busy CPUs on imbala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189840" y="4368960"/>
            <a:ext cx="265572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Symmetric Multiprocessor (SMP) Scheduling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01600" y="23814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rcRect l="28981" t="16328" r="30817" b="50135"/>
          <a:stretch/>
        </p:blipFill>
        <p:spPr>
          <a:xfrm>
            <a:off x="324000" y="947880"/>
            <a:ext cx="6154560" cy="41083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3"/>
          <a:srcRect l="587" t="27401" r="978" b="27922"/>
          <a:stretch/>
        </p:blipFill>
        <p:spPr>
          <a:xfrm>
            <a:off x="247680" y="2066760"/>
            <a:ext cx="6388200" cy="21751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5886360" y="45720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9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0T17:58:50Z</dcterms:created>
  <dc:creator>Marilyn Turnamian</dc:creator>
  <dc:description/>
  <dc:language>en-US</dc:language>
  <cp:lastModifiedBy>CSE</cp:lastModifiedBy>
  <cp:lastPrinted>2001-06-14T14:25:09Z</cp:lastPrinted>
  <dcterms:modified xsi:type="dcterms:W3CDTF">2008-01-21T22:31:40Z</dcterms:modified>
  <cp:revision>102</cp:revision>
  <dc:subject/>
  <dc:title>Module 6:  CPU Scheduling</dc:title>
</cp:coreProperties>
</file>