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826920" y="3624120"/>
            <a:ext cx="735192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593960" y="12823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826920" y="36241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93960" y="36241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312720" y="128232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798520" y="128232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826920" y="362412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312720" y="362412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5798520" y="362412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35874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93960" y="1282320"/>
            <a:ext cx="35874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80773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3960" y="1282320"/>
            <a:ext cx="35874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26920" y="36241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35874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93960" y="12823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93960" y="36241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93960" y="12823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26920" y="3624120"/>
            <a:ext cx="735192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26920" y="3624120"/>
            <a:ext cx="735192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93960" y="12823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26920" y="36241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93960" y="36241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312720" y="128232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798520" y="128232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26920" y="362412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312720" y="362412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5798520" y="362412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35874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3960" y="1282320"/>
            <a:ext cx="35874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80773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93960" y="1282320"/>
            <a:ext cx="35874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26920" y="36241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35874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93960" y="12823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93960" y="36241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93960" y="12823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26920" y="3624120"/>
            <a:ext cx="735192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88"/>
              </a:spcBef>
              <a:buClr>
                <a:srgbClr val="ff9900"/>
              </a:buClr>
              <a:buSzPct val="75000"/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788"/>
              </a:spcBef>
              <a:buClr>
                <a:srgbClr val="ff0066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788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788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041000" y="6613560"/>
            <a:ext cx="89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93300"/>
                </a:solidFill>
                <a:latin typeface="Arial"/>
              </a:rPr>
              <a:t>6.</a:t>
            </a:r>
            <a:fld id="{AD5D7D8A-DC7A-4375-9887-6A1DEB1BFF23}" type="slidenum">
              <a:rPr b="1" lang="en-US" sz="1000" spc="-1" strike="noStrike">
                <a:solidFill>
                  <a:srgbClr val="9933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 flipV="1" rot="8361600">
            <a:off x="1609200" y="4961520"/>
            <a:ext cx="9720" cy="1440"/>
          </a:xfrm>
          <a:custGeom>
            <a:avLst/>
            <a:gdLst/>
            <a:ahLst/>
            <a:rect l="l" t="t" r="r" b="b"/>
            <a:pathLst>
              <a:path w="20" h="4">
                <a:moveTo>
                  <a:pt x="20" y="4"/>
                </a:moveTo>
                <a:lnTo>
                  <a:pt x="0" y="0"/>
                </a:lnTo>
                <a:lnTo>
                  <a:pt x="16" y="0"/>
                </a:lnTo>
                <a:lnTo>
                  <a:pt x="20" y="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 flipV="1" rot="10665600">
            <a:off x="1188720" y="4204440"/>
            <a:ext cx="4680" cy="1800"/>
          </a:xfrm>
          <a:custGeom>
            <a:avLst/>
            <a:gdLst/>
            <a:ahLst/>
            <a:rect l="l" t="t" r="r" b="b"/>
            <a:pathLst>
              <a:path w="12" h="4">
                <a:moveTo>
                  <a:pt x="12" y="4"/>
                </a:moveTo>
                <a:lnTo>
                  <a:pt x="0" y="0"/>
                </a:lnTo>
                <a:lnTo>
                  <a:pt x="12" y="0"/>
                </a:lnTo>
                <a:lnTo>
                  <a:pt x="12" y="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5164200" y="4206960"/>
            <a:ext cx="7920" cy="9360"/>
          </a:xfrm>
          <a:custGeom>
            <a:avLst/>
            <a:gdLst/>
            <a:ahLst/>
            <a:rect l="l" t="t" r="r" b="b"/>
            <a:pathLst>
              <a:path w="12" h="12">
                <a:moveTo>
                  <a:pt x="7" y="12"/>
                </a:moveTo>
                <a:lnTo>
                  <a:pt x="0" y="10"/>
                </a:lnTo>
                <a:lnTo>
                  <a:pt x="12" y="0"/>
                </a:lnTo>
                <a:lnTo>
                  <a:pt x="7" y="1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489720" y="6588000"/>
            <a:ext cx="271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93300"/>
                </a:solidFill>
                <a:latin typeface="Arial"/>
              </a:rPr>
              <a:t>Silberschatz, Galvin and Gagne ©20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-360" y="6613560"/>
            <a:ext cx="187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93300"/>
                </a:solidFill>
                <a:latin typeface="Arial"/>
              </a:rPr>
              <a:t>Operating System Concep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-1658880" y="1109520"/>
            <a:ext cx="4680" cy="1800"/>
          </a:xfrm>
          <a:custGeom>
            <a:avLst/>
            <a:gdLst/>
            <a:ahLst/>
            <a:rect l="l" t="t" r="r" b="b"/>
            <a:pathLst>
              <a:path w="13" h="0">
                <a:moveTo>
                  <a:pt x="13" y="0"/>
                </a:moveTo>
                <a:lnTo>
                  <a:pt x="0" y="0"/>
                </a:lnTo>
                <a:lnTo>
                  <a:pt x="7" y="0"/>
                </a:lnTo>
                <a:lnTo>
                  <a:pt x="1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-898560" y="1170000"/>
            <a:ext cx="3240" cy="1440"/>
          </a:xfrm>
          <a:custGeom>
            <a:avLst/>
            <a:gdLst/>
            <a:ahLst/>
            <a:rect l="l" t="t" r="r" b="b"/>
            <a:pathLst>
              <a:path w="10" h="0">
                <a:moveTo>
                  <a:pt x="0" y="0"/>
                </a:moveTo>
                <a:lnTo>
                  <a:pt x="10" y="0"/>
                </a:lnTo>
                <a:lnTo>
                  <a:pt x="6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-1479600" y="423720"/>
            <a:ext cx="180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-1467000" y="888840"/>
            <a:ext cx="6480" cy="1800"/>
          </a:xfrm>
          <a:custGeom>
            <a:avLst/>
            <a:gdLst/>
            <a:ahLst/>
            <a:rect l="l" t="t" r="r" b="b"/>
            <a:pathLst>
              <a:path w="18" h="7">
                <a:moveTo>
                  <a:pt x="0" y="7"/>
                </a:moveTo>
                <a:lnTo>
                  <a:pt x="12" y="0"/>
                </a:lnTo>
                <a:lnTo>
                  <a:pt x="18" y="0"/>
                </a:lnTo>
                <a:lnTo>
                  <a:pt x="0" y="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-1639800" y="1144440"/>
            <a:ext cx="1440" cy="6480"/>
          </a:xfrm>
          <a:custGeom>
            <a:avLst/>
            <a:gdLst/>
            <a:ahLst/>
            <a:rect l="l" t="t" r="r" b="b"/>
            <a:pathLst>
              <a:path w="6" h="16">
                <a:moveTo>
                  <a:pt x="0" y="16"/>
                </a:moveTo>
                <a:lnTo>
                  <a:pt x="6" y="0"/>
                </a:lnTo>
                <a:lnTo>
                  <a:pt x="3" y="13"/>
                </a:lnTo>
                <a:lnTo>
                  <a:pt x="0" y="1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-1247760" y="1146240"/>
            <a:ext cx="4680" cy="7920"/>
          </a:xfrm>
          <a:custGeom>
            <a:avLst/>
            <a:gdLst/>
            <a:ahLst/>
            <a:rect l="l" t="t" r="r" b="b"/>
            <a:pathLst>
              <a:path w="11" h="20">
                <a:moveTo>
                  <a:pt x="8" y="20"/>
                </a:moveTo>
                <a:lnTo>
                  <a:pt x="0" y="0"/>
                </a:lnTo>
                <a:lnTo>
                  <a:pt x="11" y="16"/>
                </a:lnTo>
                <a:lnTo>
                  <a:pt x="8" y="2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>
            <a:off x="-1101600" y="1228680"/>
            <a:ext cx="1440" cy="6480"/>
          </a:xfrm>
          <a:custGeom>
            <a:avLst/>
            <a:gdLst/>
            <a:ahLst/>
            <a:rect l="l" t="t" r="r" b="b"/>
            <a:pathLst>
              <a:path w="7" h="14">
                <a:moveTo>
                  <a:pt x="0" y="14"/>
                </a:moveTo>
                <a:lnTo>
                  <a:pt x="7" y="0"/>
                </a:lnTo>
                <a:lnTo>
                  <a:pt x="7" y="7"/>
                </a:lnTo>
                <a:lnTo>
                  <a:pt x="0" y="1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>
            <a:off x="-1303200" y="1270080"/>
            <a:ext cx="12600" cy="1440"/>
          </a:xfrm>
          <a:custGeom>
            <a:avLst/>
            <a:gdLst/>
            <a:ahLst/>
            <a:rect l="l" t="t" r="r" b="b"/>
            <a:pathLst>
              <a:path w="30" h="3">
                <a:moveTo>
                  <a:pt x="0" y="3"/>
                </a:moveTo>
                <a:lnTo>
                  <a:pt x="15" y="0"/>
                </a:lnTo>
                <a:lnTo>
                  <a:pt x="30" y="0"/>
                </a:lnTo>
                <a:lnTo>
                  <a:pt x="0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>
            <a:off x="1176480" y="885960"/>
            <a:ext cx="4680" cy="9360"/>
          </a:xfrm>
          <a:custGeom>
            <a:avLst/>
            <a:gdLst/>
            <a:ahLst/>
            <a:rect l="l" t="t" r="r" b="b"/>
            <a:pathLst>
              <a:path w="9" h="24">
                <a:moveTo>
                  <a:pt x="0" y="24"/>
                </a:moveTo>
                <a:lnTo>
                  <a:pt x="9" y="0"/>
                </a:lnTo>
                <a:lnTo>
                  <a:pt x="6" y="17"/>
                </a:lnTo>
                <a:lnTo>
                  <a:pt x="0" y="2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" name="" descr=""/>
          <p:cNvPicPr/>
          <p:nvPr/>
        </p:nvPicPr>
        <p:blipFill>
          <a:blip r:embed="rId2"/>
          <a:stretch/>
        </p:blipFill>
        <p:spPr>
          <a:xfrm>
            <a:off x="8118360" y="6010200"/>
            <a:ext cx="1011240" cy="611280"/>
          </a:xfrm>
          <a:prstGeom prst="rect">
            <a:avLst/>
          </a:prstGeom>
          <a:ln w="0">
            <a:noFill/>
          </a:ln>
        </p:spPr>
      </p:pic>
      <p:pic>
        <p:nvPicPr>
          <p:cNvPr id="18" name="" descr=""/>
          <p:cNvPicPr/>
          <p:nvPr/>
        </p:nvPicPr>
        <p:blipFill>
          <a:blip r:embed="rId3"/>
          <a:stretch/>
        </p:blipFill>
        <p:spPr>
          <a:xfrm>
            <a:off x="0" y="0"/>
            <a:ext cx="600120" cy="1101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179880" y="4829040"/>
            <a:ext cx="2349360" cy="1419480"/>
          </a:xfrm>
          <a:prstGeom prst="rect">
            <a:avLst/>
          </a:prstGeom>
          <a:ln w="38160">
            <a:solidFill>
              <a:srgbClr val="cc3300"/>
            </a:solidFill>
            <a:miter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1539720" y="3603600"/>
            <a:ext cx="6035760" cy="343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Synchronization Hardware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26560" y="1282680"/>
            <a:ext cx="7285320" cy="30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744480"/>
                <a:tab algn="l" pos="1025640"/>
                <a:tab algn="l" pos="1260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y systems provide hardware support for critical section c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744480"/>
                <a:tab algn="l" pos="1025640"/>
                <a:tab algn="l" pos="1260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niprocessors – could disable interrup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744480"/>
                <a:tab algn="l" pos="1025640"/>
                <a:tab algn="l" pos="1260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rrently running code would execute without preemp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744480"/>
                <a:tab algn="l" pos="1025640"/>
                <a:tab algn="l" pos="1260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nerally too inefficient on multiprocessor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744480"/>
                <a:tab algn="l" pos="1025640"/>
                <a:tab algn="l" pos="1260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erating systems using this not broadly sca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744480"/>
                <a:tab algn="l" pos="1025640"/>
                <a:tab algn="l" pos="1260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dern machines provide special atomic hardware instru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744480"/>
                <a:tab algn="l" pos="1025640"/>
                <a:tab algn="l" pos="1260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Atomic = non-interrup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744480"/>
                <a:tab algn="l" pos="1025640"/>
                <a:tab algn="l" pos="1260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ither test memory word and set val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744480"/>
                <a:tab algn="l" pos="1025640"/>
                <a:tab algn="l" pos="1260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r swap contents of two memory wor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5840280" y="4456080"/>
            <a:ext cx="2702160" cy="20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Semaphore Implementation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584856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acquire(S){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000ff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--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if (S </a:t>
            </a:r>
            <a:r>
              <a:rPr b="0" i="1" lang="en-US" sz="1600" spc="-1" strike="noStrike">
                <a:solidFill>
                  <a:srgbClr val="0000ff"/>
                </a:solidFill>
                <a:latin typeface="Arial"/>
              </a:rPr>
              <a:t>&lt; 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0) {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000ff"/>
                </a:solidFill>
                <a:latin typeface="Arial"/>
              </a:rPr>
              <a:t>add this process to li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block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release(S){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S++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if (S </a:t>
            </a:r>
            <a:r>
              <a:rPr b="0" i="1" lang="en-US" sz="1600" spc="-1" strike="noStrike">
                <a:solidFill>
                  <a:srgbClr val="0000ff"/>
                </a:solidFill>
                <a:latin typeface="Arial"/>
              </a:rPr>
              <a:t>&lt;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= 0) {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000ff"/>
                </a:solidFill>
                <a:latin typeface="Arial"/>
              </a:rPr>
              <a:t>remove a process P from li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wakeup(P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095880" y="3789360"/>
            <a:ext cx="30481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restart="whenNotActive" nodeType="interactiveSeq" fill="hold">
                <p:stCondLst>
                  <p:cond evt="onClick">
                    <p:tgtEl>
                      <p:spTgt spid="125"/>
                    </p:tgtEl>
                  </p:cond>
                </p:stCondLst>
                <p:childTnLst>
                  <p:par>
                    <p:cTn id="51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4" dur="1" fill="hold"/>
                                        <p:tgtEl>
                                          <p:spTgt spid="1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Semaphore Implementation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26920" y="963360"/>
            <a:ext cx="7459920" cy="38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t guarantee that no two processes can execute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acquire(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release(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n the same semaphore at the same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us, the correct implementation becomes the critical section main problem. At issue a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ld the solution now have busy waiting in critical section implementatio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t implementation code is sh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busy waiting if critical section rarely occupi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ld applications spend lots of time in critical section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ance issues addressed throughout this le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5219640" y="4811760"/>
            <a:ext cx="2727360" cy="20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restart="whenNotActive" nodeType="interactiveSeq" fill="hold">
                <p:stCondLst>
                  <p:cond evt="onClick">
                    <p:tgtEl>
                      <p:spTgt spid="128"/>
                    </p:tgtEl>
                  </p:cond>
                </p:stCondLst>
                <p:childTnLst>
                  <p:par>
                    <p:cTn id="57" fill="hold">
                      <p:stCondLst>
                        <p:cond evt="onClick">
                          <p:tgtEl>
                            <p:spTgt spid="128"/>
                          </p:tgtEl>
                        </p:cond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0" dur="1" fill="hold"/>
                                        <p:tgtEl>
                                          <p:spTgt spid="12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Deadlock and Starvation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71560" y="920880"/>
            <a:ext cx="7300800" cy="39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ctr" pos="1887480"/>
                <a:tab algn="ctr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Deadlock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– two or more processes are waiting indefinitely for an event that can be caused by only one of the waiting proces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ctr" pos="1887480"/>
                <a:tab algn="ctr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t 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Q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e two semaphores initialized to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ctr" pos="1887480"/>
                <a:tab algn="ctr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000ff"/>
                </a:solidFill>
                <a:latin typeface="Arial"/>
              </a:rPr>
              <a:t>P</a:t>
            </a:r>
            <a:r>
              <a:rPr b="0" lang="en-US" sz="1600" spc="-1" strike="noStrike" baseline="-25000">
                <a:solidFill>
                  <a:srgbClr val="0000ff"/>
                </a:solidFill>
                <a:latin typeface="Arial"/>
              </a:rPr>
              <a:t>0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000ff"/>
                </a:solidFill>
                <a:latin typeface="Arial"/>
              </a:rPr>
              <a:t>P</a:t>
            </a:r>
            <a:r>
              <a:rPr b="0" lang="en-US" sz="16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ctr" pos="1887480"/>
                <a:tab algn="ctr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             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acquire(S); 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acquire(Q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ctr" pos="1887480"/>
                <a:tab algn="ctr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              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acquire(Q); 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acquire(S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ctr" pos="1887480"/>
                <a:tab algn="ctr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. 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ctr" pos="1887480"/>
                <a:tab algn="ctr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. 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ctr" pos="1887480"/>
                <a:tab algn="ctr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. 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ctr" pos="1887480"/>
                <a:tab algn="ctr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              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release(S); 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release(Q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ctr" pos="1887480"/>
                <a:tab algn="ctr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              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release(Q); 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release(S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ctr" pos="1887480"/>
                <a:tab algn="ctr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Starva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– indefinite blocking.  A process may never be removed from the semaphore queue in which it is suspend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380280" y="4921200"/>
            <a:ext cx="2582640" cy="193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restart="whenNotActive" nodeType="interactiveSeq" fill="hold">
                <p:stCondLst>
                  <p:cond evt="onClick">
                    <p:tgtEl>
                      <p:spTgt spid="131"/>
                    </p:tgtEl>
                  </p:cond>
                </p:stCondLst>
                <p:childTnLst>
                  <p:par>
                    <p:cTn id="63" fill="hold">
                      <p:stCondLst>
                        <p:cond evt="onClick">
                          <p:tgtEl>
                            <p:spTgt spid="131"/>
                          </p:tgtEl>
                        </p:cond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6" dur="1" fill="hold"/>
                                        <p:tgtEl>
                                          <p:spTgt spid="1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Classical Problems of Synchronization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26560" y="1282680"/>
            <a:ext cx="3598920" cy="13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unded-Buffer Probl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aders and Writers Probl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ning-Philosophers Probl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5261040" y="341136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restart="whenNotActive" nodeType="interactiveSeq" fill="hold">
                <p:stCondLst>
                  <p:cond evt="onClick">
                    <p:tgtEl>
                      <p:spTgt spid="134"/>
                    </p:tgtEl>
                  </p:cond>
                </p:stCondLst>
                <p:childTnLst>
                  <p:par>
                    <p:cTn id="69" fill="hold">
                      <p:stCondLst>
                        <p:cond evt="onClick">
                          <p:tgtEl>
                            <p:spTgt spid="134"/>
                          </p:tgtEl>
                        </p:cond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72" dur="1" fill="hold"/>
                                        <p:tgtEl>
                                          <p:spTgt spid="1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Bounded-Buffer Problem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69760" y="1035000"/>
            <a:ext cx="7327800" cy="29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public class BoundedBuffer implements Buf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{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private static final int BUFFER SIZE = 5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private Object[] buffer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private int in, ou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private Semaphore mutex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private Semaphore empty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private Semaphore full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// Continued on next Sli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5740560" y="409428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restart="whenNotActive" nodeType="interactiveSeq" fill="hold">
                <p:stCondLst>
                  <p:cond evt="onClick">
                    <p:tgtEl>
                      <p:spTgt spid="137"/>
                    </p:tgtEl>
                  </p:cond>
                </p:stCondLst>
                <p:childTnLst>
                  <p:par>
                    <p:cTn id="75" fill="hold">
                      <p:stCondLst>
                        <p:cond evt="onClick">
                          <p:tgtEl>
                            <p:spTgt spid="137"/>
                          </p:tgtEl>
                        </p:cond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78" dur="1" fill="hold"/>
                                        <p:tgtEl>
                                          <p:spTgt spid="1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Bounded Buffer Constructor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26560" y="949320"/>
            <a:ext cx="6255000" cy="39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public BoundedBuffer() {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// buffer is initially emp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in = 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out = 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buffer = new Object[BUFFER SIZE]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mutex = new Semaphore(1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empty = new Semaphore(BUFFER SIZE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full = new Semaphore(0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public void insert(Object item) { /* next slides */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public Object remove() { /* next slides */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6445080" y="4646520"/>
            <a:ext cx="2698920" cy="20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restart="whenNotActive" nodeType="interactiveSeq" fill="hold">
                <p:stCondLst>
                  <p:cond evt="onClick">
                    <p:tgtEl>
                      <p:spTgt spid="140"/>
                    </p:tgtEl>
                  </p:cond>
                </p:stCondLst>
                <p:childTnLst>
                  <p:par>
                    <p:cTn id="81" fill="hold">
                      <p:stCondLst>
                        <p:cond evt="onClick">
                          <p:tgtEl>
                            <p:spTgt spid="140"/>
                          </p:tgtEl>
                        </p:cond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84" dur="1" fill="hold"/>
                                        <p:tgtEl>
                                          <p:spTgt spid="1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Arial"/>
              </a:rPr>
              <a:t>Bounded Buffer Problem: insert() Method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26920" y="1282680"/>
            <a:ext cx="5137200" cy="29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public void insert(Object item) {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empty.acquire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mutex.acquire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// add an item to the buf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buffer[in] = ite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in = (in + 1) % BUFFER SIZ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mutex.release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full.release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5708520" y="4165560"/>
            <a:ext cx="30481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restart="whenNotActive" nodeType="interactiveSeq" fill="hold">
                <p:stCondLst>
                  <p:cond evt="onClick">
                    <p:tgtEl>
                      <p:spTgt spid="143"/>
                    </p:tgtEl>
                  </p:cond>
                </p:stCondLst>
                <p:childTnLst>
                  <p:par>
                    <p:cTn id="87" fill="hold">
                      <p:stCondLst>
                        <p:cond evt="onClick">
                          <p:tgtEl>
                            <p:spTgt spid="143"/>
                          </p:tgtEl>
                        </p:cond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90" dur="1" fill="hold"/>
                                        <p:tgtEl>
                                          <p:spTgt spid="1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Arial"/>
              </a:rPr>
              <a:t>Bounded Buffer Problem: remove() Method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26920" y="1282680"/>
            <a:ext cx="6661440" cy="29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public Object remove() {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full.acquire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mutex.acquire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// remove an item from the buf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Object item = buffer[out]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out = (out + 1) % BUFFER SIZ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mutex.release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empty.release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return ite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5637240" y="4165560"/>
            <a:ext cx="30481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restart="whenNotActive" nodeType="interactiveSeq" fill="hold">
                <p:stCondLst>
                  <p:cond evt="onClick">
                    <p:tgtEl>
                      <p:spTgt spid="146"/>
                    </p:tgtEl>
                  </p:cond>
                </p:stCondLst>
                <p:childTnLst>
                  <p:par>
                    <p:cTn id="93" fill="hold">
                      <p:stCondLst>
                        <p:cond evt="onClick">
                          <p:tgtEl>
                            <p:spTgt spid="146"/>
                          </p:tgtEl>
                        </p:cond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96" dur="1" fill="hold"/>
                                        <p:tgtEl>
                                          <p:spTgt spid="1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Bounded Buffer Problem: Producer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22808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import java.util.Dat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public class Producer implements Run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{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private Buffer buffer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public Producer(Buffer buffer) {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this.buffer = buffer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public void run() {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Date messag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while (true) {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// nap for awh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SleepUtilities.nap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// produce an item &amp; enter it into the buf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message = new Date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buffer.insert(message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5840280" y="1670040"/>
            <a:ext cx="30481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restart="whenNotActive" nodeType="interactiveSeq" fill="hold">
                <p:stCondLst>
                  <p:cond evt="onClick">
                    <p:tgtEl>
                      <p:spTgt spid="149"/>
                    </p:tgtEl>
                  </p:cond>
                </p:stCondLst>
                <p:childTnLst>
                  <p:par>
                    <p:cTn id="99" fill="hold">
                      <p:stCondLst>
                        <p:cond evt="onClick">
                          <p:tgtEl>
                            <p:spTgt spid="149"/>
                          </p:tgtEl>
                        </p:cond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02" dur="1" fill="hold"/>
                                        <p:tgtEl>
                                          <p:spTgt spid="1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Bounded Buffer Problem: Consumer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664848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import java.util.Dat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public class Consumer implements Run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{</a:t>
            </a:r>
            <a:r>
              <a:rPr b="0" i="1" lang="en-US" sz="16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private Buffer buffer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public Consumer(Buffer buffer) {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this.buffer = buffer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public void run() {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Date messag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while (true) {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// nap for awh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SleepUtilities.nap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// consume an item from the buf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message = (Date)buffer.remove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5710320" y="168444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restart="whenNotActive" nodeType="interactiveSeq" fill="hold">
                <p:stCondLst>
                  <p:cond evt="onClick">
                    <p:tgtEl>
                      <p:spTgt spid="152"/>
                    </p:tgtEl>
                  </p:cond>
                </p:stCondLst>
                <p:childTnLst>
                  <p:par>
                    <p:cTn id="105" fill="hold">
                      <p:stCondLst>
                        <p:cond evt="onClick">
                          <p:tgtEl>
                            <p:spTgt spid="152"/>
                          </p:tgtEl>
                        </p:cond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08" dur="1" fill="hold"/>
                                        <p:tgtEl>
                                          <p:spTgt spid="1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Data Structure for Hardware Solutions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4687920" cy="40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public class Hardware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{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private boolean data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public HardwareData(boolean data) {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this.data = data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public boolean get() {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return data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public void set(boolean data) {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this.data = data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// Continued on Next Sli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522760" y="3803760"/>
            <a:ext cx="30481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102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Bounded Buffer Problem: Factory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796680" y="1065240"/>
            <a:ext cx="7211880" cy="348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public class Facto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{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public static void main(String args[]) {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Buffer buffer = new BoundedBuffer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// now create the producer and consumer threa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Thread producer = new Thread(new Producer(buffer)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Thread consumer = new Thread(new Consumer(buffer)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producer.start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consumer.start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6516720" y="4700520"/>
            <a:ext cx="2627280" cy="197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restart="whenNotActive" nodeType="interactiveSeq" fill="hold">
                <p:stCondLst>
                  <p:cond evt="onClick">
                    <p:tgtEl>
                      <p:spTgt spid="155"/>
                    </p:tgtEl>
                  </p:cond>
                </p:stCondLst>
                <p:childTnLst>
                  <p:par>
                    <p:cTn id="111" fill="hold">
                      <p:stCondLst>
                        <p:cond evt="onClick">
                          <p:tgtEl>
                            <p:spTgt spid="155"/>
                          </p:tgtEl>
                        </p:cond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4" dur="1" fill="hold"/>
                                        <p:tgtEl>
                                          <p:spTgt spid="1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Arial"/>
              </a:rPr>
              <a:t>Data Structure for Hardware Solutions - cont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26560" y="1282680"/>
            <a:ext cx="6951960" cy="32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public boolean getAndSet(boolean data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boolean oldValue = this.get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this.set(data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return oldValu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public void swap(HardwareData other) {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boolean temp = this.get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this.set(other.get()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other.set(temp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5508720" y="407988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Thread Using get-and-set Lock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26920" y="1282680"/>
            <a:ext cx="718344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// lock is shared by all threa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HardwareData lock = new HardwareData(false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while (true) {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while (lock.getAndSet(true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Thread.yield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criticalSection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lock.set(false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nonCriticalSection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5450040" y="394812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8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8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Thread Using swap Instruction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26560" y="1282320"/>
            <a:ext cx="4773960" cy="49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// lock is shared by all threa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HardwareData lock = new HardwareData(false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// each thread has a local copy of ke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HardwareData key = new HardwareData(true);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while (true) {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key.set(true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do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lock.swap(key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while (key.get() == true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criticalSection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lock.set(false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nonCriticalSection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5537160" y="4195800"/>
            <a:ext cx="30481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0" dur="1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Semaphore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26920" y="992160"/>
            <a:ext cx="4586400" cy="526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nchronization tool that does not require busy waiting </a:t>
            </a:r>
            <a:br>
              <a:rPr sz="1600"/>
            </a:br>
            <a:r>
              <a:rPr b="0" i="1" lang="en-US" sz="1600" spc="-1" strike="noStrike">
                <a:solidFill>
                  <a:srgbClr val="cc3300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cc3300"/>
                </a:solidFill>
                <a:latin typeface="Arial"/>
              </a:rPr>
              <a:t>spin lock</a:t>
            </a:r>
            <a:r>
              <a:rPr b="0" i="1" lang="en-US" sz="1600" spc="-1" strike="noStrike">
                <a:solidFill>
                  <a:srgbClr val="cc33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maphor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integer vari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wo standard operations modify 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S: acquire(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release(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riginally called 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P(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V(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ss complic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n only be accessed via two indivisible (atomic)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acquire(S) {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while S &lt;= 0 ; // no-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S--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release(S) {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S++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5450040" y="416556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6" dur="1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Arial"/>
              </a:rPr>
              <a:t>Semaphore as General Synchronization Tool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26560" y="1022040"/>
            <a:ext cx="658836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ctr" pos="2004840"/>
                <a:tab algn="ctr" pos="45180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Counting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maphore – integer value can range over an unrestricted doma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ctr" pos="2004840"/>
                <a:tab algn="ctr" pos="45180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Binar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emaphore – integer value can range only between 0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1; can be simpler to impl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ctr" pos="2004840"/>
                <a:tab algn="ctr" pos="45180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so known as 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mutex loc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ctr" pos="2004840"/>
                <a:tab algn="ctr" pos="45180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n implement a counting semaphore 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s a binary semapho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ctr" pos="2004840"/>
                <a:tab algn="ctr" pos="45180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vides mutual exclu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ctr" pos="2004840"/>
                <a:tab algn="ctr" pos="45180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ctr" pos="2004840"/>
                <a:tab algn="ctr" pos="45180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Semaphore S; // initialized to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ctr" pos="2004840"/>
                <a:tab algn="ctr" pos="45180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ctr" pos="2004840"/>
                <a:tab algn="ctr" pos="45180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acquire(S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ctr" pos="2004840"/>
                <a:tab algn="ctr" pos="45180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criticalSection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ctr" pos="2004840"/>
                <a:tab algn="ctr" pos="45180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release(S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ctr" pos="2004840"/>
                <a:tab algn="ctr" pos="45180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5958000" y="4456080"/>
            <a:ext cx="2466720" cy="185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restart="whenNotActive" nodeType="interactiveSeq" fill="hold">
                <p:stCondLst>
                  <p:cond evt="onClick">
                    <p:tgtEl>
                      <p:spTgt spid="117"/>
                    </p:tgtEl>
                  </p:cond>
                </p:stCondLst>
                <p:childTnLst>
                  <p:par>
                    <p:cTn id="39" fill="hold">
                      <p:stCondLst>
                        <p:cond evt="onClick">
                          <p:tgtEl>
                            <p:spTgt spid="117"/>
                          </p:tgtEl>
                        </p:cond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2" dur="1" fill="hold"/>
                                        <p:tgtEl>
                                          <p:spTgt spid="1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Arial"/>
              </a:rPr>
              <a:t>Synchronization using Semaphores Implementation - Worker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-360" y="1355400"/>
            <a:ext cx="5964120" cy="518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public class Worker implements Run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{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private Semaphore se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private String nam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public Worker(Semaphore sem, String name) {</a:t>
            </a:r>
            <a:r>
              <a:rPr b="0" i="1" lang="en-US" sz="16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this.sem = se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this.name = nam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public void run() {</a:t>
            </a:r>
            <a:r>
              <a:rPr b="0" i="1" lang="en-US" sz="16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while (true) {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sem.acquire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MutualExclusionUtilities.criticalSection(name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sem.release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MutualExclusionUtilities.nonCriticalSection(name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5979960" y="2019240"/>
            <a:ext cx="2603520" cy="19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restart="whenNotActive" nodeType="interactiveSeq" fill="hold">
                <p:stCondLst>
                  <p:cond evt="onClick">
                    <p:tgtEl>
                      <p:spTgt spid="120"/>
                    </p:tgtEl>
                  </p:cond>
                </p:stCondLst>
                <p:childTnLst>
                  <p:par>
                    <p:cTn id="45" fill="hold">
                      <p:stCondLst>
                        <p:cond evt="onClick">
                          <p:tgtEl>
                            <p:spTgt spid="120"/>
                          </p:tgtEl>
                        </p:cond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8" dur="1" fill="hold"/>
                                        <p:tgtEl>
                                          <p:spTgt spid="1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33012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Arial"/>
              </a:rPr>
              <a:t>Synchronization using Semaphores Implementation - SemaphoreFactory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709200" y="1265400"/>
            <a:ext cx="82551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public class SemaphoreFacto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{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public static void main(String args[]) {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Semaphore sem = new Semaphore(1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Thread[] bees = new Thread[5]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for (int i = 0; i &lt; 5; i++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bees[i] = new Thread(new Work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(sem, "Worker " + (new Integer(i)).toString() )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for (int i = 0; i &lt; 5; i++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bees[i].start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3T13:31:00Z</dcterms:created>
  <dc:creator>Marilyn Turnamian</dc:creator>
  <dc:description/>
  <dc:language>en-US</dc:language>
  <cp:lastModifiedBy>CSE</cp:lastModifiedBy>
  <cp:lastPrinted>1999-08-27T16:17:10Z</cp:lastPrinted>
  <dcterms:modified xsi:type="dcterms:W3CDTF">2008-02-18T01:07:13Z</dcterms:modified>
  <cp:revision>234</cp:revision>
  <dc:subject/>
  <dc:title>Module 7:  Process Synchronization</dc:title>
</cp:coreProperties>
</file>