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6.</a:t>
            </a:r>
            <a:fld id="{12F09349-BDF1-44B0-962E-99AE3117501C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ders-Writers Problem: Read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080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Reader implements Run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RWLock d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Reader(RWLock db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db = d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un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nap for a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acquireRead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you now have access to read from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read from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releaseRead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619600" y="1249200"/>
            <a:ext cx="27766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dition Vari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8360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dition x,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hread that invoke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x.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suspended until another thread invoke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x.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91000" y="3657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nitor with condition vari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0979" t="532" r="11377" b="532"/>
          <a:stretch/>
        </p:blipFill>
        <p:spPr>
          <a:xfrm>
            <a:off x="581040" y="1177920"/>
            <a:ext cx="4940280" cy="4721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19600" y="3078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Condition Variable Solution to Dining Philosopher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3040" y="1166400"/>
            <a:ext cx="51818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nitor DiningPhilosophers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[] state = new int[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ic final int THINKING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ic final int HUNGRY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ic final int EATING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dition[] self = new condition[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diningPhilosophers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or (int i = 0; i &lt; 5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e[i] = THINK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entry pickUp(int i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e[i] = HUNG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est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(state[i] != EA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lf[i].wa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48160" y="3774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olution to Dining Philosophers (cont)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4200" y="977400"/>
            <a:ext cx="5992560" cy="37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entry putDown(int i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e[i] = THINK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test left and right neighb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est((i + 4) % 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est((i + 1) % 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test(int i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( (state[(i + 4) % 5] != EATING) &amp;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tate[i] == HUNGRY) &amp;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tate[(i + 1) % 5] != EATING) 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ate[i] = EAT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lf[i].sig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76900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037560" cy="26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Buffer solution using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chronized, wait(), notify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Not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Semaph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Mon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69000" y="4094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ders-Writers Problem: Writ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09624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Writer implements Run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RWLock d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Writer(RWLock db) {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db = d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un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acquireWrite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you have access to write to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write to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releaseWrite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83320" y="1468440"/>
            <a:ext cx="27558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ders-Writers Problem: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4152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interface RW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abstract void acquireRead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abstract void acquireWrite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abstract void releaseRead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abstract void releaseWrite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232000"/>
                <a:tab algn="l" pos="25131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41800" y="4094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ders-Writers Problem: Databas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034640"/>
            <a:ext cx="4775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Database implements RW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int reader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emaphore mut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emaphore d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Database() {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aderCou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acquireReadLock() { /* next slides */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eleaseReadLock() {/* next slides */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acquireWriteLock() {/* next slides */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eleaseWriteLock() {/* next slides */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0920" y="1830240"/>
            <a:ext cx="2718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eaders-Writers Problem: Methods called by reader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77760"/>
            <a:ext cx="506412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acquireReadLock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++reader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if I am the first reader tell all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that the database is being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(readerCount ==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eleaseReadLock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-reader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if I am the last reader tell all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that the database is no longer being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(readerCount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14840" y="1887480"/>
            <a:ext cx="2853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eaders-Writers Problem: Methods called by writer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5340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acquireWriteLock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eleaseWriteLock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7960" y="4122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ning-Philosophers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4876920"/>
            <a:ext cx="7029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7016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37016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maphore chopStick[]  = new Semaphore[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51" t="522" r="11351" b="522"/>
          <a:stretch/>
        </p:blipFill>
        <p:spPr>
          <a:xfrm>
            <a:off x="884160" y="1582560"/>
            <a:ext cx="3173400" cy="3046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3840" y="1749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ning-Philosophers Proble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2920" y="1282320"/>
            <a:ext cx="50785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osopher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get left chop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opStick[i]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get right chop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opStick[(i + 1) % 5]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atin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return left chop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opStick[i]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return right chopst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opStick[(i + 1) % 5]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nking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700"/>
              </a:spcBef>
              <a:buNone/>
              <a:tabLst>
                <a:tab algn="l" pos="0"/>
                <a:tab algn="l" pos="1712880"/>
                <a:tab algn="l" pos="2004840"/>
                <a:tab algn="l" pos="2232000"/>
                <a:tab algn="l" pos="2459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4520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nito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50515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onitor is a high-level abstraction that provides thread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one thread may be active within the monitor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nitor monitor-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variable decla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entry p1(…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entry p2(…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640480" y="2454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3:31:00Z</dcterms:created>
  <dc:creator>Marilyn Turnamian</dc:creator>
  <dc:description/>
  <dc:language>en-US</dc:language>
  <cp:lastModifiedBy>CSE</cp:lastModifiedBy>
  <cp:lastPrinted>1999-08-27T16:17:10Z</cp:lastPrinted>
  <dcterms:modified xsi:type="dcterms:W3CDTF">2008-02-18T01:33:27Z</dcterms:modified>
  <cp:revision>232</cp:revision>
  <dc:subject/>
  <dc:title>Module 7:  Process Synchronization</dc:title>
</cp:coreProperties>
</file>