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0410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8.</a:t>
            </a:r>
            <a:fld id="{E62D6887-59C6-4918-94C3-05BE0F639288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 rot="8361600">
            <a:off x="1609200" y="4961520"/>
            <a:ext cx="9720" cy="1440"/>
          </a:xfrm>
          <a:custGeom>
            <a:avLst/>
            <a:gdLst/>
            <a:ahLst/>
            <a:rect l="l" t="t" r="r" b="b"/>
            <a:pathLst>
              <a:path w="20" h="4">
                <a:moveTo>
                  <a:pt x="20" y="4"/>
                </a:moveTo>
                <a:lnTo>
                  <a:pt x="0" y="0"/>
                </a:lnTo>
                <a:lnTo>
                  <a:pt x="16" y="0"/>
                </a:lnTo>
                <a:lnTo>
                  <a:pt x="2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 rot="10665600">
            <a:off x="1188720" y="4204440"/>
            <a:ext cx="4680" cy="1800"/>
          </a:xfrm>
          <a:custGeom>
            <a:avLst/>
            <a:gdLst/>
            <a:ahLst/>
            <a:rect l="l" t="t" r="r" b="b"/>
            <a:pathLst>
              <a:path w="12" h="4">
                <a:moveTo>
                  <a:pt x="12" y="4"/>
                </a:moveTo>
                <a:lnTo>
                  <a:pt x="0" y="0"/>
                </a:lnTo>
                <a:lnTo>
                  <a:pt x="12" y="0"/>
                </a:lnTo>
                <a:lnTo>
                  <a:pt x="12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64200" y="4206960"/>
            <a:ext cx="7920" cy="9360"/>
          </a:xfrm>
          <a:custGeom>
            <a:avLst/>
            <a:gdLst/>
            <a:ahLst/>
            <a:rect l="l" t="t" r="r" b="b"/>
            <a:pathLst>
              <a:path w="12" h="12">
                <a:moveTo>
                  <a:pt x="7" y="12"/>
                </a:moveTo>
                <a:lnTo>
                  <a:pt x="0" y="10"/>
                </a:lnTo>
                <a:lnTo>
                  <a:pt x="12" y="0"/>
                </a:lnTo>
                <a:lnTo>
                  <a:pt x="7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360" y="6613560"/>
            <a:ext cx="187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1658880" y="1109520"/>
            <a:ext cx="4680" cy="1800"/>
          </a:xfrm>
          <a:custGeom>
            <a:avLst/>
            <a:gdLst/>
            <a:ahLst/>
            <a:rect l="l" t="t" r="r" b="b"/>
            <a:pathLst>
              <a:path w="13" h="0">
                <a:moveTo>
                  <a:pt x="13" y="0"/>
                </a:moveTo>
                <a:lnTo>
                  <a:pt x="0" y="0"/>
                </a:lnTo>
                <a:lnTo>
                  <a:pt x="7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898560" y="1170000"/>
            <a:ext cx="32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10" y="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-1467000" y="888840"/>
            <a:ext cx="6480" cy="180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7"/>
                </a:moveTo>
                <a:lnTo>
                  <a:pt x="12" y="0"/>
                </a:lnTo>
                <a:lnTo>
                  <a:pt x="18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-1639800" y="1144440"/>
            <a:ext cx="1440" cy="6480"/>
          </a:xfrm>
          <a:custGeom>
            <a:avLst/>
            <a:gdLst/>
            <a:ahLst/>
            <a:rect l="l" t="t" r="r" b="b"/>
            <a:pathLst>
              <a:path w="6" h="16">
                <a:moveTo>
                  <a:pt x="0" y="16"/>
                </a:moveTo>
                <a:lnTo>
                  <a:pt x="6" y="0"/>
                </a:lnTo>
                <a:lnTo>
                  <a:pt x="3" y="13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-1247760" y="1146240"/>
            <a:ext cx="4680" cy="7920"/>
          </a:xfrm>
          <a:custGeom>
            <a:avLst/>
            <a:gdLst/>
            <a:ahLst/>
            <a:rect l="l" t="t" r="r" b="b"/>
            <a:pathLst>
              <a:path w="11" h="20">
                <a:moveTo>
                  <a:pt x="8" y="20"/>
                </a:moveTo>
                <a:lnTo>
                  <a:pt x="0" y="0"/>
                </a:lnTo>
                <a:lnTo>
                  <a:pt x="11" y="16"/>
                </a:lnTo>
                <a:lnTo>
                  <a:pt x="8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-1101600" y="1228680"/>
            <a:ext cx="1440" cy="6480"/>
          </a:xfrm>
          <a:custGeom>
            <a:avLst/>
            <a:gdLst/>
            <a:ahLst/>
            <a:rect l="l" t="t" r="r" b="b"/>
            <a:pathLst>
              <a:path w="7" h="14">
                <a:moveTo>
                  <a:pt x="0" y="14"/>
                </a:moveTo>
                <a:lnTo>
                  <a:pt x="7" y="0"/>
                </a:lnTo>
                <a:lnTo>
                  <a:pt x="7" y="7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-1303200" y="1270080"/>
            <a:ext cx="12600" cy="1440"/>
          </a:xfrm>
          <a:custGeom>
            <a:avLst/>
            <a:gdLst/>
            <a:ahLst/>
            <a:rect l="l" t="t" r="r" b="b"/>
            <a:pathLst>
              <a:path w="30" h="3">
                <a:moveTo>
                  <a:pt x="0" y="3"/>
                </a:moveTo>
                <a:lnTo>
                  <a:pt x="15" y="0"/>
                </a:lnTo>
                <a:lnTo>
                  <a:pt x="3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176480" y="885960"/>
            <a:ext cx="4680" cy="9360"/>
          </a:xfrm>
          <a:custGeom>
            <a:avLst/>
            <a:gdLst/>
            <a:ahLst/>
            <a:rect l="l" t="t" r="r" b="b"/>
            <a:pathLst>
              <a:path w="9" h="24">
                <a:moveTo>
                  <a:pt x="0" y="24"/>
                </a:moveTo>
                <a:lnTo>
                  <a:pt x="9" y="0"/>
                </a:lnTo>
                <a:lnTo>
                  <a:pt x="6" y="17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788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8:  Memory Manag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186520" y="3268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ynamic Link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768204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ing postponed until execu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piece of cod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sed to locate the appropriate memory-resident library 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b replaces itself with the address of the routine, and executes the 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needed to check if routine is in processes’ memory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linking is particularly useful for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197320" y="41292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verlay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6560" y="1282680"/>
            <a:ext cx="7697880" cy="25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in memory only those instructions and data that are needed at any given ti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ed when process is larger than amount of memory allocated to 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ed by user, no special support needed from operating system, programming design of overlay structure is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968720" y="38988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verlays for a Two-Pass Assembler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469" t="5099" r="469" b="5409"/>
          <a:stretch/>
        </p:blipFill>
        <p:spPr>
          <a:xfrm>
            <a:off x="295200" y="1035000"/>
            <a:ext cx="6102360" cy="4133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253200" y="4849920"/>
            <a:ext cx="267804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wapp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871280"/>
            <a:ext cx="77965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 can be swapped temporarily out of memory to a backing store, and then brought back into memory for continued execu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Backing st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fast disk, large enough to accommodate copies of all memory images for all users; must provide direct access to these memory imag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Roll out, roll 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variant of swapping used for priority-based scheduling algorithms; lower-priority process is swapped out so higher-priority process can be loaded and execu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in medium-term schedu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part of swap time is transfer time; total transfer time is directly proportional to the amount of memory swapp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 versions of swapping are found on many systems (i.e., UNIX, Linux, and Windows) (Such systems require the establishing of swap-spaces, which can be expanded as need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257880" y="0"/>
            <a:ext cx="2476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chematic View of Swapp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742" t="340" r="487" b="1299"/>
          <a:stretch/>
        </p:blipFill>
        <p:spPr>
          <a:xfrm>
            <a:off x="233280" y="903240"/>
            <a:ext cx="6185160" cy="46195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356520" y="4322880"/>
            <a:ext cx="278748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ntiguous Allo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6560" y="988560"/>
            <a:ext cx="7517160" cy="36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mory is usually segmented into two part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ident operating system, usually held in low memory with interrupt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processes then held in high memo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partition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a relocation-register scheme used to protect user processes from each other, and from changing operating-system code an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ocation register contains value of smallest physical address; limit register contains range of logical addresses – each logical address must be less than the limit regi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769000" y="4805280"/>
            <a:ext cx="27367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Hardware Support for Relocation and Limit Registers</a:t>
            </a:r>
            <a:br>
              <a:rPr sz="2400"/>
            </a:b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432" t="17532" r="1155" b="17532"/>
          <a:stretch/>
        </p:blipFill>
        <p:spPr>
          <a:xfrm>
            <a:off x="233280" y="1170000"/>
            <a:ext cx="6531120" cy="32320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116680" y="4441680"/>
            <a:ext cx="286848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ntiguous Allocation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81040" y="791640"/>
            <a:ext cx="777888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-partition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 block of available memory; holes of various size are scattered throughout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rocess arrives, it is allocated memory from a hole large enough to accommodat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maintains information about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allocated partitions    b) free partitions (ho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28600" y="3102480"/>
            <a:ext cx="6629400" cy="2134440"/>
            <a:chOff x="228600" y="3102480"/>
            <a:chExt cx="6629400" cy="2134440"/>
          </a:xfrm>
        </p:grpSpPr>
        <p:sp>
          <p:nvSpPr>
            <p:cNvPr id="149" name=""/>
            <p:cNvSpPr/>
            <p:nvPr/>
          </p:nvSpPr>
          <p:spPr>
            <a:xfrm>
              <a:off x="228600" y="3103560"/>
              <a:ext cx="1143000" cy="2133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" y="34671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" y="3878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8600" y="48099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4960" y="310248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" y="354672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8600" y="422964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 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8600" y="482652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57400" y="3103560"/>
              <a:ext cx="1143000" cy="2133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57400" y="34671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57400" y="3878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57400" y="48099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63760" y="310248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57400" y="354672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57400" y="482652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86200" y="3103560"/>
              <a:ext cx="1143000" cy="2133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6200" y="34671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86200" y="3878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86200" y="48099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2560" y="310248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86200" y="354672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86200" y="482652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15000" y="3103560"/>
              <a:ext cx="1143000" cy="2133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15000" y="34671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15000" y="3878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48099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21360" y="310248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15000" y="354672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15000" y="386424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 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15000" y="482652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57400" y="3865320"/>
              <a:ext cx="1143000" cy="99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6200" y="4246560"/>
              <a:ext cx="114300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86200" y="386424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 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15000" y="4551120"/>
              <a:ext cx="114300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15000" y="4201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5000" y="424548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s 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7920" y="4246560"/>
              <a:ext cx="533520" cy="228600"/>
            </a:xfrm>
            <a:prstGeom prst="rightArrow">
              <a:avLst>
                <a:gd name="adj1" fmla="val 50000"/>
                <a:gd name="adj2" fmla="val 58346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76720" y="4246560"/>
              <a:ext cx="533520" cy="228600"/>
            </a:xfrm>
            <a:prstGeom prst="rightArrow">
              <a:avLst>
                <a:gd name="adj1" fmla="val 50000"/>
                <a:gd name="adj2" fmla="val 58346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05520" y="4246560"/>
              <a:ext cx="533520" cy="228600"/>
            </a:xfrm>
            <a:prstGeom prst="rightArrow">
              <a:avLst>
                <a:gd name="adj1" fmla="val 50000"/>
                <a:gd name="adj2" fmla="val 58346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772320" y="4819680"/>
            <a:ext cx="23716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ynamic Storage-Allocation Probl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93440" y="1577880"/>
            <a:ext cx="683244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First-f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llocat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e that is big en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Best-f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llocat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mall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e that is big enough; must search entire list, unless ordered by size.  Produces the smallest leftover h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Worst-f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llocat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rg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e; must also search entire list.  Produces the largest leftover h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2280" y="1065960"/>
            <a:ext cx="65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satisfy a request of siz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a list of free h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2480" y="3777120"/>
            <a:ext cx="653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-fit and best-fit better than worst-fit in terms of speed and storage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834160" y="41450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ragment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5160" y="923760"/>
            <a:ext cx="7893360" cy="448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External Fragm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otal memory space exists to satisfy a request, but it is not contig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Internal Fragm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llocated memory may be slightly larger than requested memory; this size difference is memory internal to a partition, but not being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The Buddy-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alescing of ‘buddy’ holes (at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dress boundaries) into larger holes to minimize internal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external fragmentation by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comp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uffle memory contents to place all free memory together in one large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ction is possi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relocation is dynamic, and is done at execu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problems – involving jobs in the middle of doing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ch job in memory while it is involved in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/O only into OS 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684840" y="4718160"/>
            <a:ext cx="24591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4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8:  Memory Manag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3598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ap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guous Al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gmentation with P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951440" y="30020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ackground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1282680"/>
            <a:ext cx="77616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must be brought into memory and placed within a process for it to be r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Input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collection of processes on the disk that are waiting to be brought into memory to run the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programs go through several steps before being r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622840" y="41292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Binding of Instructions and Data to Memor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4200" y="2147400"/>
            <a:ext cx="79581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Compile 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If memory location is known a priori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bsolute co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generated; must recompile code if starting location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Load 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Must generat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locata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f memory location is not known at compile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Execution 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Binding delayed until run time if the process can be moved during its execution from one memory segment to another.  Need hardware support for address maps (e.g.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imit regist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9520" y="1377000"/>
            <a:ext cx="771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binding of instructions and data to memory addresses ca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ppen at three different s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688000" y="42274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Multistep Processing of a User Program 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30186" t="1004" r="30392" b="660"/>
          <a:stretch/>
        </p:blipFill>
        <p:spPr>
          <a:xfrm>
            <a:off x="1457280" y="1198440"/>
            <a:ext cx="2757600" cy="51595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871880" y="24462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ogical vs. Physical Address Spa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282680"/>
            <a:ext cx="7926480" cy="25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cept of a logic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dress 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is bound to a separ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dress 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entral to proper memor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Logical 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generated by the CPU; also referred to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hysical 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ddress seen by the memory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and physical addresses are the same in compile-time and load-time address-binding schemes; logical (virtual) and physical addresses differ in execution-time address-binding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951440" y="42274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emory-Management Unit (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MMU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282680"/>
            <a:ext cx="751716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device that maps virtual to physical addr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MU scheme, the value in the relocation register is added to every address generated by a user process at the time it is sent to memo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r program deals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dresses; it never see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hysical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033880" y="42102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Dynamic relocation using a relocation registe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842" t="3480" r="1089" b="3785"/>
          <a:stretch/>
        </p:blipFill>
        <p:spPr>
          <a:xfrm>
            <a:off x="228600" y="1081080"/>
            <a:ext cx="6089760" cy="43178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95880" y="41115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ynamic Load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920" y="1282680"/>
            <a:ext cx="7420320" cy="27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e is not loaded until it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memory-space utilization; unused routine is never lo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when large amounts of code are needed to handle infrequently occurring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pecial support from the operating system is required implemented through progra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99040" y="41450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2T20:13:57Z</dcterms:created>
  <dc:creator>Marilyn Turnamian</dc:creator>
  <dc:description/>
  <dc:language>en-US</dc:language>
  <cp:lastModifiedBy>CSE</cp:lastModifiedBy>
  <cp:lastPrinted>2001-06-14T19:17:20Z</cp:lastPrinted>
  <dcterms:modified xsi:type="dcterms:W3CDTF">2008-02-14T22:12:09Z</dcterms:modified>
  <cp:revision>149</cp:revision>
  <dc:subject/>
  <dc:title>Figure 9.01</dc:title>
</cp:coreProperties>
</file>