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0410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8.</a:t>
            </a:r>
            <a:fld id="{046B305E-7002-4F97-A3A4-D413510AA567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 rot="8361600">
            <a:off x="1609200" y="4961520"/>
            <a:ext cx="9720" cy="1440"/>
          </a:xfrm>
          <a:custGeom>
            <a:avLst/>
            <a:gdLst/>
            <a:ahLst/>
            <a:rect l="l" t="t" r="r" b="b"/>
            <a:pathLst>
              <a:path w="20" h="4">
                <a:moveTo>
                  <a:pt x="20" y="4"/>
                </a:moveTo>
                <a:lnTo>
                  <a:pt x="0" y="0"/>
                </a:lnTo>
                <a:lnTo>
                  <a:pt x="16" y="0"/>
                </a:lnTo>
                <a:lnTo>
                  <a:pt x="2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 rot="10665600">
            <a:off x="1188720" y="4204440"/>
            <a:ext cx="4680" cy="1800"/>
          </a:xfrm>
          <a:custGeom>
            <a:avLst/>
            <a:gdLst/>
            <a:ahLst/>
            <a:rect l="l" t="t" r="r" b="b"/>
            <a:pathLst>
              <a:path w="12" h="4">
                <a:moveTo>
                  <a:pt x="12" y="4"/>
                </a:moveTo>
                <a:lnTo>
                  <a:pt x="0" y="0"/>
                </a:lnTo>
                <a:lnTo>
                  <a:pt x="12" y="0"/>
                </a:lnTo>
                <a:lnTo>
                  <a:pt x="12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64200" y="4206960"/>
            <a:ext cx="7920" cy="9360"/>
          </a:xfrm>
          <a:custGeom>
            <a:avLst/>
            <a:gdLst/>
            <a:ahLst/>
            <a:rect l="l" t="t" r="r" b="b"/>
            <a:pathLst>
              <a:path w="12" h="12">
                <a:moveTo>
                  <a:pt x="7" y="12"/>
                </a:moveTo>
                <a:lnTo>
                  <a:pt x="0" y="10"/>
                </a:lnTo>
                <a:lnTo>
                  <a:pt x="12" y="0"/>
                </a:lnTo>
                <a:lnTo>
                  <a:pt x="7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-360" y="6613560"/>
            <a:ext cx="187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1658880" y="1109520"/>
            <a:ext cx="4680" cy="1800"/>
          </a:xfrm>
          <a:custGeom>
            <a:avLst/>
            <a:gdLst/>
            <a:ahLst/>
            <a:rect l="l" t="t" r="r" b="b"/>
            <a:pathLst>
              <a:path w="13" h="0">
                <a:moveTo>
                  <a:pt x="13" y="0"/>
                </a:moveTo>
                <a:lnTo>
                  <a:pt x="0" y="0"/>
                </a:lnTo>
                <a:lnTo>
                  <a:pt x="7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898560" y="1170000"/>
            <a:ext cx="32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10" y="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-1467000" y="888840"/>
            <a:ext cx="6480" cy="180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7"/>
                </a:moveTo>
                <a:lnTo>
                  <a:pt x="12" y="0"/>
                </a:lnTo>
                <a:lnTo>
                  <a:pt x="18" y="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-1639800" y="1144440"/>
            <a:ext cx="1440" cy="6480"/>
          </a:xfrm>
          <a:custGeom>
            <a:avLst/>
            <a:gdLst/>
            <a:ahLst/>
            <a:rect l="l" t="t" r="r" b="b"/>
            <a:pathLst>
              <a:path w="6" h="16">
                <a:moveTo>
                  <a:pt x="0" y="16"/>
                </a:moveTo>
                <a:lnTo>
                  <a:pt x="6" y="0"/>
                </a:lnTo>
                <a:lnTo>
                  <a:pt x="3" y="13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-1247760" y="1146240"/>
            <a:ext cx="4680" cy="7920"/>
          </a:xfrm>
          <a:custGeom>
            <a:avLst/>
            <a:gdLst/>
            <a:ahLst/>
            <a:rect l="l" t="t" r="r" b="b"/>
            <a:pathLst>
              <a:path w="11" h="20">
                <a:moveTo>
                  <a:pt x="8" y="20"/>
                </a:moveTo>
                <a:lnTo>
                  <a:pt x="0" y="0"/>
                </a:lnTo>
                <a:lnTo>
                  <a:pt x="11" y="16"/>
                </a:lnTo>
                <a:lnTo>
                  <a:pt x="8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-1101600" y="1228680"/>
            <a:ext cx="1440" cy="6480"/>
          </a:xfrm>
          <a:custGeom>
            <a:avLst/>
            <a:gdLst/>
            <a:ahLst/>
            <a:rect l="l" t="t" r="r" b="b"/>
            <a:pathLst>
              <a:path w="7" h="14">
                <a:moveTo>
                  <a:pt x="0" y="14"/>
                </a:moveTo>
                <a:lnTo>
                  <a:pt x="7" y="0"/>
                </a:lnTo>
                <a:lnTo>
                  <a:pt x="7" y="7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-1303200" y="1270080"/>
            <a:ext cx="12600" cy="1440"/>
          </a:xfrm>
          <a:custGeom>
            <a:avLst/>
            <a:gdLst/>
            <a:ahLst/>
            <a:rect l="l" t="t" r="r" b="b"/>
            <a:pathLst>
              <a:path w="30" h="3">
                <a:moveTo>
                  <a:pt x="0" y="3"/>
                </a:moveTo>
                <a:lnTo>
                  <a:pt x="15" y="0"/>
                </a:lnTo>
                <a:lnTo>
                  <a:pt x="3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176480" y="885960"/>
            <a:ext cx="4680" cy="9360"/>
          </a:xfrm>
          <a:custGeom>
            <a:avLst/>
            <a:gdLst/>
            <a:ahLst/>
            <a:rect l="l" t="t" r="r" b="b"/>
            <a:pathLst>
              <a:path w="9" h="24">
                <a:moveTo>
                  <a:pt x="0" y="24"/>
                </a:moveTo>
                <a:lnTo>
                  <a:pt x="9" y="0"/>
                </a:lnTo>
                <a:lnTo>
                  <a:pt x="6" y="17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788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g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8640" y="858960"/>
            <a:ext cx="8105760" cy="39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ing – a non-contiguous memory management solution to the problems associated with contiguous memory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address space of a process can be noncontiguous; process is allocated physical memory whenever the latter i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 physical memory into fixed-sized blocks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ize is power of 2, between 512 bytes and 8192 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 logical memory into blocks of same size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track of all free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un a program of siz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ges, need to fi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ee frames and load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a page table to translate logical to physical 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internal fragmentation (removes external fragmen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0" y="484668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ffective Access Tim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920" y="1282680"/>
            <a:ext cx="746928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06388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ve Lookup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06388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memory cycle time is 1 micro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06388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 ratio – percentage of time that a page number is found in the associative registers; ratio is related to the number of associative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06388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 ratio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06388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Effective Access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88"/>
              </a:spcBef>
              <a:buNone/>
              <a:tabLst>
                <a:tab algn="l" pos="0"/>
                <a:tab algn="l" pos="206388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T = (1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2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1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88"/>
              </a:spcBef>
              <a:buNone/>
              <a:tabLst>
                <a:tab algn="l" pos="0"/>
                <a:tab algn="l" pos="206388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88"/>
              </a:spcBef>
              <a:buNone/>
              <a:tabLst>
                <a:tab algn="l" pos="0"/>
                <a:tab algn="l" pos="206388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883120" y="4572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emory Protec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560" y="1282680"/>
            <a:ext cx="772956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protection implemented by associating protection bit with each fr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alid-inval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t attached to each entry in the page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” indicates that the associated page is in the process’ logical address space, and is thus a legal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” indicates that the page is not in the process’ logical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PTLR saves the unnecessary ‘I’ bits and shortens the PT it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421320" y="4667400"/>
            <a:ext cx="2525760" cy="18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alid (v) or Invalid (i) Bit In A Page Tab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7302" t="600" r="7302" b="600"/>
          <a:stretch/>
        </p:blipFill>
        <p:spPr>
          <a:xfrm>
            <a:off x="488880" y="1003320"/>
            <a:ext cx="5700960" cy="49467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161040" y="3949560"/>
            <a:ext cx="298296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hared Pag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8280" y="955800"/>
            <a:ext cx="785988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Shar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copy of read-only (reentrant) code shared among processes (i.e., text editors, compilers, window sy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code must appear in same location in the logical address space of all proces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rivate code and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keeps a separate copy of the code an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ges for the private code and data can appear anywhere in the logical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There are many advantages in using shared p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data and commonly used applications (saves sp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-process communication (for read-only or sync read/write 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111720" y="5111640"/>
            <a:ext cx="232884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hared Pages Examp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3400" t="1541" r="13160" b="610"/>
          <a:stretch/>
        </p:blipFill>
        <p:spPr>
          <a:xfrm>
            <a:off x="630360" y="1066680"/>
            <a:ext cx="4846680" cy="48434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721480" y="377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ge Table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3598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erarchical P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hed Pag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rted Pag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968720" y="34275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Hierarchical Page Tabl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802512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 up the logical address space into multiple pag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t, PT alone may require a large RAM 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a 32-bit logical space with 4Kbyte pages (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ill need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&gt;1million) entries. If each entry is 4byte, then the PT will occupy 4MB space and require a large sear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mple technique is a two-level 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095880" y="41450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wo-Level Paging Examp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95816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ogical address (on 32-bit machine with 4K page size) is divided in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ge number consisting of 20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ge offset consisting of 12 bits (see how the 12-bit offset size relates to the page size, e.g., 4K = 2</a:t>
            </a:r>
            <a:r>
              <a:rPr b="0" lang="en-US" sz="1600" spc="-1" strike="noStrike" u="sng" baseline="30000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: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yte 0 to byte 4095 in the page/fr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ce the page table is paged, the page number is further divided in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10-bit page numb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10-bit page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s, a logical address is as follows: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n index into the outer page table,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the displacement within the page of the outer page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67200" y="4387680"/>
            <a:ext cx="3105000" cy="438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4258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00520" y="40449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11680" y="3955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74320" y="396792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99760" y="4395240"/>
            <a:ext cx="33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78080" y="438732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72400" y="444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71760" y="506340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8480" y="50349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50349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248520" y="283860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2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wo-Level Page-Table Schem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14991" t="847" r="15006" b="1043"/>
          <a:stretch/>
        </p:blipFill>
        <p:spPr>
          <a:xfrm>
            <a:off x="800280" y="1066680"/>
            <a:ext cx="4708440" cy="49500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900760" y="32796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8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ddress-Translation Schem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8105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-translation scheme for a two-level 32-bit paging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 of 64-bit address or more is inefficient with 2-level, and incurs prohibitive memory accesses even using higher-level schemes (Illustrate: 64 = 42,10, 12  OR 64=32,10,10,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509" t="22415" r="509" b="22415"/>
          <a:stretch/>
        </p:blipFill>
        <p:spPr>
          <a:xfrm>
            <a:off x="236520" y="2962440"/>
            <a:ext cx="6534000" cy="27302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705720" y="50292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4" dur="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ddress Translation Schem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282680"/>
            <a:ext cx="7925040" cy="27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generated by CPU is divided into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ge 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used as an index into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ich contains base address of each page in physical memo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ge off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bined with base address to define the physical memory address that is sent to the memory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621400" y="411156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Hashed Page Tabl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942320" cy="35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n address spaces &gt; 3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irtual page number is hashed into a page table. This page table contains a chain of elements hashing to the same lo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page numbers (the hash values) are compared in this chain searching for a match. If a match is found, the corresponding physical frame (the next value in the chain) is extra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ed page tables – each entry/value in the chain, if matched, will refer to a ‘cluster’ or group of frames (not only one); and useful for noncontiguous, sparsely used 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421320" y="4552920"/>
            <a:ext cx="25257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0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Hashed Page Tab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439" t="14205" r="668" b="13900"/>
          <a:stretch/>
        </p:blipFill>
        <p:spPr>
          <a:xfrm>
            <a:off x="407880" y="1133640"/>
            <a:ext cx="6683400" cy="36432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095880" y="43736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6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verted Page Tab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8104320" cy="27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entry for each real (active) page of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y consists of the virtual address of the page stored in that real memory location, with information about the process that owns that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s memory needed to store each page table, but increases time needed to search the table when a page reference oc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hash table to limit the search to one — or at most a few — page-table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5880" y="43084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2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verted Page Table Archite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705" t="4346" r="705" b="4671"/>
          <a:stretch/>
        </p:blipFill>
        <p:spPr>
          <a:xfrm>
            <a:off x="601560" y="1035000"/>
            <a:ext cx="6270840" cy="43401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634080" y="4630680"/>
            <a:ext cx="25099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8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gment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7418520" cy="35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management scheme that supports user view of mem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gram is a collection of segments.  A segment is a logical unit such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progra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variables, global variab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bloc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 table, 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769000" y="42260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4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nd of Chapter 8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ddress Translation Logic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480" t="1536" r="454" b="1856"/>
          <a:stretch/>
        </p:blipFill>
        <p:spPr>
          <a:xfrm>
            <a:off x="239760" y="903240"/>
            <a:ext cx="5602320" cy="40975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95880" y="4194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ging Example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10392" t="620" r="10613" b="950"/>
          <a:stretch/>
        </p:blipFill>
        <p:spPr>
          <a:xfrm>
            <a:off x="387360" y="1052640"/>
            <a:ext cx="5105520" cy="47703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835600" y="35560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ging Examp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19979" t="640" r="20580" b="640"/>
          <a:stretch/>
        </p:blipFill>
        <p:spPr>
          <a:xfrm>
            <a:off x="496800" y="1149480"/>
            <a:ext cx="4083120" cy="50846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46720" y="33606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ree Fram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92720" y="56142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60760" y="5608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698" t="2476" r="698" b="3086"/>
          <a:stretch/>
        </p:blipFill>
        <p:spPr>
          <a:xfrm>
            <a:off x="225360" y="952560"/>
            <a:ext cx="6491520" cy="46623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508800" y="4881600"/>
            <a:ext cx="26352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mplementation of Page Tab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3440" y="923400"/>
            <a:ext cx="8024760" cy="33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table is kept in ma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ge-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se register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BR) points to the 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ge-table length regi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TLR) indicates size of the page table (used to check against logical address range to avoid excessively large page tables – not all entries would be nee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scheme every data/instruction access requires two memory accesses.  One for the page table and one for the data/instr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memory access problem can be solved by the use of a special, fast-lookup (hardware) cache called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associative memo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translation look-aside buffers (TL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834160" y="4275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ssociative Mem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5837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ve memory – parallel sea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translation (A´, A´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8160" indent="-2624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´ is in the associative register, get frame #, A´´,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8160" indent="-2624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 get frame #, A´´, from the page table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816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59280" y="2104920"/>
            <a:ext cx="289548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06840" y="16477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59280" y="240984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59280" y="271476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309564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63840" y="172404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5440" y="172404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421320" y="4537080"/>
            <a:ext cx="272268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ging Hardware With TLB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1292" t="1039" r="1292" b="684"/>
          <a:stretch/>
        </p:blipFill>
        <p:spPr>
          <a:xfrm>
            <a:off x="270000" y="952560"/>
            <a:ext cx="5744880" cy="43466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095880" y="42274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2T20:13:57Z</dcterms:created>
  <dc:creator>Marilyn Turnamian</dc:creator>
  <dc:description/>
  <dc:language>en-US</dc:language>
  <cp:lastModifiedBy>cse</cp:lastModifiedBy>
  <cp:lastPrinted>2001-06-14T19:17:20Z</cp:lastPrinted>
  <dcterms:modified xsi:type="dcterms:W3CDTF">2008-03-28T18:51:42Z</dcterms:modified>
  <cp:revision>152</cp:revision>
  <dc:subject/>
  <dc:title>Figure 9.01</dc:title>
</cp:coreProperties>
</file>