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C0C1C0-41B4-40C7-B8BF-4B7D6419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15310D-6FEC-40C7-824F-F0B8BDC1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046B14-C4D1-4B63-8A67-915E819F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A3B699-447E-42C5-9F71-875E9AD5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148094-81F9-4760-80D1-B75AA908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79B056-73FB-4E9E-8952-9A506745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87A08F-903D-4471-B782-EE10C76C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6CF8CF-F9A6-4D5B-9B88-F6B91F5C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2486BF-93B3-49E3-8513-1C2B3439D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EBE118-A7B0-43DA-9045-71CD7C0DE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DA26EA-13D4-4F44-B3E5-2E85ED08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8D4D41-62CE-40E9-B948-71F5B53ED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F7D520-657D-4FA1-A856-24330866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3C17A7-16B7-476A-84A5-EC29AA02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2CD188-20A0-4026-8483-F07C6BD2F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BEEE88-9EA0-444B-AB7E-33BA006E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816A76-38B9-473D-A943-E5B0479F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D502ED-7488-41BA-9A1F-0821DF82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ED0C88-2F08-4D36-A4C1-AD583BC4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12B7A2-211B-41A9-A848-FA6E50621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175766-CD8A-4A1C-A4DF-1B17AC25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3EC63D-5CC8-4132-AD20-921A25C0B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D4C3C9-12B8-492F-893F-12C3F5DE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768640-B770-4515-A7A6-6B4E6E2C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450CE5-4EF7-40CE-9F67-C849A99B1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57A909-0F34-4370-8401-BECC3488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09C91B-5172-4AD5-B90D-6B3E9748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F4C086-DC02-4F30-BC09-D94A62204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3E803EC-DD91-4AD8-ADB6-FE6E0C776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AC4A4F-3096-433A-A55E-F9559056F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DEA35D-133E-4051-8592-658AF8C9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A5F586-9FD1-4DB2-8830-094DF554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AD106D-CD85-48BB-8382-9E857E02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12EE32-C7C2-4C2B-B462-D166BE98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419E3F-0AE1-44D8-9695-594213C3B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A820CC-14E1-4C5D-8917-CCEAC9BB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C5B5B3-5717-4B36-A1EF-D89E0709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0D7B97-A4DB-4453-847E-C5C551A72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3294A7-A0B9-44D9-8A41-F7970FC6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883A21-0FE4-4847-8932-01B8CE07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E3BEAC-A3D1-4974-86B0-B959FCDB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67B427-4141-4CD2-BC45-ABEDA88AB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FBC28A-80B1-44A5-AC39-3796CEDD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0A4419-2624-4787-8BBF-6B99B1D74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87F6F7-4CE7-4C79-9370-732BFA9AE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1.</a:t>
            </a:r>
            <a:fld id="{7659DF1C-61A3-4B1C-8DAD-A7EBA6C0D81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2960" y="662148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4200" y="6613560"/>
            <a:ext cx="26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– 9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1: 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720" y="17892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5840" y="1233360"/>
            <a:ext cx="7648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147240"/>
            <a:ext cx="799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File Locking Example – Java API (Cont.)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8320" y="165240"/>
            <a:ext cx="781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498760" y="1209600"/>
            <a:ext cx="4336920" cy="463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360" y="1504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05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58960" y="1359000"/>
            <a:ext cx="5946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5440" y="1211040"/>
            <a:ext cx="7343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fixed length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gical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lock numbers allow OS to decide where file should be pl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llocation proble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h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5800" y="196560"/>
            <a:ext cx="830088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imulation of Sequential Access on Direct-access Fil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701720" y="1289160"/>
            <a:ext cx="61293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67802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on top of ba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involve creation of an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dex in memory for fast determination of location of data to be operated on (consider UPC code plus record of data about that i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oo large, index (in memory) of the index (on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indexed sequential-access method (I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aster index, points to disk blocks of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kept sorted on a defin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ne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S operating system provides index and relative files as another example 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51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579680" y="1320840"/>
            <a:ext cx="59022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6960" y="1374480"/>
            <a:ext cx="73706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9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2362320" y="3886200"/>
            <a:ext cx="4262400" cy="160020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990720" y="5638680"/>
            <a:ext cx="760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9332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1:  File-System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5705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nd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61840" y="1120680"/>
            <a:ext cx="70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n be subdivided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or partition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agains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or partition can be us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ithout a file system,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matt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s also known as minidisks, sl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containing file system 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olume containing file system also tracks that file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nfo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irect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-purpose file system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cial-purpose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requently all within the same operating system o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508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6" descr="10"/>
          <p:cNvPicPr/>
          <p:nvPr/>
        </p:nvPicPr>
        <p:blipFill>
          <a:blip r:embed="rId1"/>
          <a:stretch/>
        </p:blipFill>
        <p:spPr>
          <a:xfrm>
            <a:off x="1322280" y="1187280"/>
            <a:ext cx="691056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es of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6040" y="113472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stly talk of general-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ystems frequently have may file systems, some general- and some special-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lari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pfs – memory-based volatile FS for fast, temporary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fs – interface into kernel memory to get kernel symbols for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fs – contract file system for managing daem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s – loopback file system allows one FS to be accessed in place of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fs – kernel interface to proces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s, zfs – general 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06400" y="1091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9000" y="24120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irectory Organiz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0240" y="1626840"/>
            <a:ext cx="64389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0000" y="107964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y is organized logically  to obta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990720"/>
            <a:ext cx="72756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050840" y="3746520"/>
            <a:ext cx="440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744560" y="1577880"/>
            <a:ext cx="6100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7869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53920" y="4111560"/>
            <a:ext cx="70027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857240" y="1724040"/>
            <a:ext cx="6427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1533600" y="1239840"/>
            <a:ext cx="6915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016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079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06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63640" y="1136160"/>
            <a:ext cx="7370640" cy="29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l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 &lt;file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&lt;dir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2480" y="556092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658960" y="4100400"/>
            <a:ext cx="313236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71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0720" y="1093320"/>
            <a:ext cx="702972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10"/>
          <p:cNvPicPr/>
          <p:nvPr/>
        </p:nvPicPr>
        <p:blipFill>
          <a:blip r:embed="rId1"/>
          <a:stretch/>
        </p:blipFill>
        <p:spPr>
          <a:xfrm>
            <a:off x="2236680" y="1677960"/>
            <a:ext cx="4961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20680"/>
            <a:ext cx="756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lve the li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follow pointer to locat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30320" y="178920"/>
            <a:ext cx="7656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Picture 6" descr="10"/>
          <p:cNvPicPr/>
          <p:nvPr/>
        </p:nvPicPr>
        <p:blipFill>
          <a:blip r:embed="rId1"/>
          <a:stretch/>
        </p:blipFill>
        <p:spPr>
          <a:xfrm>
            <a:off x="1434960" y="1332000"/>
            <a:ext cx="66168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7640" y="178920"/>
            <a:ext cx="7707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61480" y="1134720"/>
            <a:ext cx="69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 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6840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68216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, Fig. 11-11(b)) is mounted at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11_14.pdf"/>
          <p:cNvPicPr/>
          <p:nvPr/>
        </p:nvPicPr>
        <p:blipFill>
          <a:blip r:embed="rId1"/>
          <a:stretch/>
        </p:blipFill>
        <p:spPr>
          <a:xfrm>
            <a:off x="1589040" y="2300400"/>
            <a:ext cx="5910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214800" y="1266840"/>
            <a:ext cx="29844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5200" y="1106280"/>
            <a:ext cx="709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ulti-us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s, allowing permissions and protections to be per-user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7240" y="208080"/>
            <a:ext cx="85312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67960" y="1095120"/>
            <a:ext cx="78534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ient-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naming ser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12880" y="136080"/>
            <a:ext cx="788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8880" y="1177560"/>
            <a:ext cx="6916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 systems have fail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corruption of directory structures or other non-user data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such as NFS v3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6960" y="186840"/>
            <a:ext cx="8501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8880" y="1109520"/>
            <a:ext cx="7296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how multiple users are to access a shared fil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Ch 5 process synchroniz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1480" y="1120680"/>
            <a:ext cx="7648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defined by file’s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file, source file, executabl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4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3422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lasses of users on Unix /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798480" y="564372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grp     G    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559320" y="4660920"/>
            <a:ext cx="2512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8000" y="90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7 Access-Control List Manag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Picture 2" descr="11_16.pdf"/>
          <p:cNvPicPr/>
          <p:nvPr/>
        </p:nvPicPr>
        <p:blipFill>
          <a:blip r:embed="rId1"/>
          <a:stretch/>
        </p:blipFill>
        <p:spPr>
          <a:xfrm>
            <a:off x="2841480" y="1120680"/>
            <a:ext cx="353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48960" y="150480"/>
            <a:ext cx="7737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1519200" y="1208160"/>
            <a:ext cx="66294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4840" y="1091880"/>
            <a:ext cx="759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, including extended file attributes such as file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kept in the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info Window on 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11_01.pdf"/>
          <p:cNvPicPr/>
          <p:nvPr/>
        </p:nvPicPr>
        <p:blipFill>
          <a:blip r:embed="rId1"/>
          <a:stretch/>
        </p:blipFill>
        <p:spPr>
          <a:xfrm>
            <a:off x="3637080" y="1041480"/>
            <a:ext cx="192060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arch the directory structure on disk for ent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the content of e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5200" y="1120680"/>
            <a:ext cx="680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-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cks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-open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6040" y="1106280"/>
            <a:ext cx="7142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eader-writer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ilar to reader lock – several processes can acquir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lusive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writer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Silberschatz, Avi</cp:lastModifiedBy>
  <dcterms:modified xsi:type="dcterms:W3CDTF">2013-10-02T16:07:00Z</dcterms:modified>
  <cp:revision>107</cp:revision>
  <dc:subject/>
  <dc:title>1.01</dc:title>
</cp:coreProperties>
</file>